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35E-B3BD-44D6-ACB2-B2CD3BBD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5F7-CB8A-40DC-B780-DE04F29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BBC-7E62-44E8-B576-B2145FD1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D94-B1BB-4FCF-A109-729F2A7A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BDD-4B54-469C-BB58-10831F3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736-A84D-46E9-8D99-BAF6FED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40A-4E70-4D49-9351-DDB0AE7E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427-0210-4AED-B461-4776D94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EBF-E8AF-4187-BA93-6E7DDAE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927-4EDF-405D-AE90-A9523B1D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826-AD14-439F-9004-BD8A122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847-2150-4596-B5B2-9DD8B7A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A23-31B5-4D7C-BF4F-C03CAD965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acteurs%20d&#8217;influence%20&#224;%20la%20prise%20de%20d&#233;cision.ppt" TargetMode="External"/><Relationship Id="rId2" Type="http://schemas.openxmlformats.org/officeDocument/2006/relationships/hyperlink" Target="file:///Facteurs%20d&#8217;influence%20&#224;%20la%20prise%20de%20d&#233;cision.ppt" TargetMode="External"/><Relationship Id="rId3" Type="http://schemas.openxmlformats.org/officeDocument/2006/relationships/hyperlink" Target="file:///Facteurs%20d&#8217;influence%20&#224;%20la%20prise%20de%20d&#233;cision.ppt" TargetMode="External"/><Relationship Id="rId4" Type="http://schemas.openxmlformats.org/officeDocument/2006/relationships/hyperlink" Target="file:///Facteurs%20d&#8217;influence%20&#224;%20la%20prise%20de%20d&#233;cision.ppt" TargetMode="External"/><Relationship Id="rId5" Type="http://schemas.openxmlformats.org/officeDocument/2006/relationships/hyperlink" Target="file:///Facteurs%20d&#8217;influence%20&#224;%20la%20prise%20de%20d&#233;cision.ppt" TargetMode="External"/><Relationship Id="rId6" Type="http://schemas.openxmlformats.org/officeDocument/2006/relationships/hyperlink" Target="file:///Facteurs%20d&#8217;influence%20&#224;%20la%20prise%20de%20d&#233;cision.ppt" TargetMode="External"/><Relationship Id="rId7" Type="http://schemas.openxmlformats.org/officeDocument/2006/relationships/hyperlink" Target="file:///Facteurs%20d&#8217;influence%20&#224;%20la%20prise%20de%20d&#233;cision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socié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t nouveau dans l’idéologie libérale: on proclame que l’éthique  pa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entreprise « loyale », « honnête », etc. gagnera des clients et fera plus de pro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avantage concurrentiel se fonde de plus en plus sur les services fournis par, ou à côté du produ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its durables, éco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vironnement sociét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es valeurs de la société de consommation sont remise en cau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égalité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ponsabilité morale de l’entrepri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Écologiq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amil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dentité nation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écurité et santé au travai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écurité des produi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Éth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34:32Z</dcterms:created>
  <dc:creator>Salem</dc:creator>
  <dc:description/>
  <dc:language>en-US</dc:language>
  <cp:lastModifiedBy>SALEM DJAMEL </cp:lastModifiedBy>
  <dcterms:modified xsi:type="dcterms:W3CDTF">2003-01-20T22:52:48Z</dcterms:modified>
  <cp:revision>4</cp:revision>
  <dc:subject/>
  <dc:title>Environnement sociétal. </dc:title>
</cp:coreProperties>
</file>