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860-7098-43DC-94B9-C04C0D03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2C5-D20F-42F4-9AC7-0A20598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ED9-485D-4B3E-A9E6-2C9B957E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1E7-2003-431C-9448-67021AE0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F64-D4D9-431F-AB20-3322F825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A20-9939-44FC-A32B-CD1F3270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83C-B4AA-49D8-8C86-E91CE634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E4A-5EB2-48F8-9BA9-976EF5C7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821-40F9-49B1-AEE0-D171A51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99E-FC03-4CFE-8D19-D5DC056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BCF-5CB3-4597-906E-9669A1C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B62-52AC-4290-9923-E9B58C6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3493-0A0C-4ED7-BE51-9FEAC39D3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acteurs%20d&#8217;influence%20&#224;%20la%20prise%20de%20d&#233;cision.ppt" TargetMode="External"/><Relationship Id="rId2" Type="http://schemas.openxmlformats.org/officeDocument/2006/relationships/hyperlink" Target="file:///Facteurs%20d&#8217;influence%20&#224;%20la%20prise%20de%20d&#233;cision.ppt" TargetMode="External"/><Relationship Id="rId3" Type="http://schemas.openxmlformats.org/officeDocument/2006/relationships/hyperlink" Target="file:///Facteurs%20d&#8217;influence%20&#224;%20la%20prise%20de%20d&#233;cision.ppt" TargetMode="External"/><Relationship Id="rId4" Type="http://schemas.openxmlformats.org/officeDocument/2006/relationships/hyperlink" Target="file:///Facteurs%20d&#8217;influence%20&#224;%20la%20prise%20de%20d&#233;cision.ppt" TargetMode="External"/><Relationship Id="rId5" Type="http://schemas.openxmlformats.org/officeDocument/2006/relationships/hyperlink" Target="file:///Facteurs%20d&#8217;influence%20&#224;%20la%20prise%20de%20d&#233;cision.ppt" TargetMode="External"/><Relationship Id="rId6" Type="http://schemas.openxmlformats.org/officeDocument/2006/relationships/hyperlink" Target="file:///Facteurs%20d&#8217;influence%20&#224;%20la%20prise%20de%20d&#233;cision.ppt" TargetMode="External"/><Relationship Id="rId7" Type="http://schemas.openxmlformats.org/officeDocument/2006/relationships/hyperlink" Target="file:///Facteurs%20d&#8217;influence%20&#224;%20la%20prise%20de%20d&#233;cision.ppt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sociét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t nouveau dans l’idéologie libérale: on proclame que l’éthique  pa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entreprise « loyale », « honnête », etc. gagnera des clients et fera plus d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vantage concurrentiel se fonde de plus en plus sur les services fournis par, ou à côté du produ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its durables, écol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sociét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Les valeurs de la société de consommation sont remise en cau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égalité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sponsabilité morale de l’entrepri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Écologiq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amili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dentité nationa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écurité et santé au travai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écurité des produ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Éth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34:32Z</dcterms:created>
  <dc:creator>Salem</dc:creator>
  <dc:description/>
  <dc:language>en-US</dc:language>
  <cp:lastModifiedBy>SALEM DJAMEL </cp:lastModifiedBy>
  <dcterms:modified xsi:type="dcterms:W3CDTF">2003-01-20T22:52:48Z</dcterms:modified>
  <cp:revision>4</cp:revision>
  <dc:subject/>
  <dc:title>Environnement sociétal. </dc:title>
</cp:coreProperties>
</file>