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chimes.wav" ContentType="audio/x-wav"/>
  <Override PartName="/ppt/media/image36.gif" ContentType="image/gif"/>
  <Override PartName="/ppt/media/image20.jpeg" ContentType="image/jpeg"/>
  <Override PartName="/ppt/media/gigglesa.wav" ContentType="audio/x-wav"/>
  <Override PartName="/ppt/media/bee.wav" ContentType="audio/x-wav"/>
  <Override PartName="/ppt/media/image27.jpeg" ContentType="image/jpeg"/>
  <Override PartName="/ppt/media/image19.jpeg" ContentType="image/jpeg"/>
  <Override PartName="/ppt/media/image2.gif" ContentType="image/gif"/>
  <Override PartName="/ppt/media/image17.jpeg" ContentType="image/jpeg"/>
  <Override PartName="/ppt/media/image16.gif" ContentType="image/gif"/>
  <Override PartName="/ppt/media/image15.gif" ContentType="image/gif"/>
  <Override PartName="/ppt/media/image5.jpeg" ContentType="image/jpeg"/>
  <Override PartName="/ppt/media/image14.jpeg" ContentType="image/jpeg"/>
  <Override PartName="/ppt/media/beeswarm.wav" ContentType="audio/x-wav"/>
  <Override PartName="/ppt/media/image12.jpeg" ContentType="image/jpeg"/>
  <Override PartName="/ppt/media/image6.jpeg" ContentType="image/jpeg"/>
  <Override PartName="/ppt/media/image11.jpeg" ContentType="image/jpeg"/>
  <Override PartName="/ppt/media/image29.jpeg" ContentType="image/jpeg"/>
  <Override PartName="/ppt/media/image37.gif" ContentType="image/gif"/>
  <Override PartName="/ppt/media/image30.jpeg" ContentType="image/jpeg"/>
  <Override PartName="/ppt/media/image3.jpeg" ContentType="image/jpeg"/>
  <Override PartName="/ppt/media/image33.jpeg" ContentType="image/jpeg"/>
  <Override PartName="/ppt/media/drumroll.wav" ContentType="audio/x-wav"/>
  <Override PartName="/ppt/media/image24.jpeg" ContentType="image/jpeg"/>
  <Override PartName="/ppt/media/image28.jpeg" ContentType="image/jpeg"/>
  <Override PartName="/ppt/media/image32.jpeg" ContentType="image/jpeg"/>
  <Override PartName="/ppt/media/image26.jpeg" ContentType="image/jpeg"/>
  <Override PartName="/ppt/media/image35.gif" ContentType="image/gif"/>
  <Override PartName="/ppt/media/image38.jpeg" ContentType="image/jpeg"/>
  <Override PartName="/ppt/media/image39.gif" ContentType="image/gif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40.gif" ContentType="image/gif"/>
  <Override PartName="/ppt/media/image9.wmf" ContentType="image/x-wmf"/>
  <Override PartName="/ppt/media/image8.gif" ContentType="image/gif"/>
  <Override PartName="/ppt/media/image18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click.wav" ContentType="audio/x-wav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04B-4215-49B8-97E4-6915B543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CA17-F847-470A-90F2-D7DE8CF0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E39-F19D-4DED-8A8C-1CC45061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676-1EA9-4B7A-9542-C61478FA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A2F-5896-4A0A-A95E-C90A0B79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616-F121-4323-AA9F-3A9C0E16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3CC-19A2-4FB1-A785-332D5A53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E52-A705-4FDF-8463-80BEF200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40D-6417-4818-8ECE-767FB522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B50-4ACA-4EDA-831E-D33CDAFE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13FB-5581-4904-8C3B-D439CDFD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EC6-2538-426F-91AD-F3FAB7E9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06B3-3699-4ABA-87DC-4ACD35D56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audio" Target="../media/beeswarm.wav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audio" Target="../media/bee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audio" Target="../media/bee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audio" Target="../media/bee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audio" Target="../media/bee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audio" Target="../media/be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audio" Target="../media/bee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audio" Target="../media/bee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audio" Target="../media/bee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image" Target="../media/image35.gif"/><Relationship Id="rId9" Type="http://schemas.openxmlformats.org/officeDocument/2006/relationships/image" Target="../media/image35.gif"/><Relationship Id="rId10" Type="http://schemas.openxmlformats.org/officeDocument/2006/relationships/image" Target="../media/image35.gif"/><Relationship Id="rId11" Type="http://schemas.openxmlformats.org/officeDocument/2006/relationships/image" Target="../media/image35.gif"/><Relationship Id="rId12" Type="http://schemas.openxmlformats.org/officeDocument/2006/relationships/image" Target="../media/image35.gi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audio" Target="../media/gigglesa.wav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B grapjes (1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k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j de sl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ote bu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Bij wo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95640" y="616572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5796000" y="2060640"/>
            <a:ext cx="1368360" cy="3311640"/>
          </a:xfrm>
          <a:prstGeom prst="ellipse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5867280" y="2997360"/>
            <a:ext cx="115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157720"/>
            <a:ext cx="395892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eren spre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rcRect l="0" t="0" r="34874" b="69244"/>
          <a:stretch/>
        </p:blipFill>
        <p:spPr>
          <a:xfrm>
            <a:off x="2362320" y="2895480"/>
            <a:ext cx="4038480" cy="838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05120" y="2590920"/>
            <a:ext cx="5486400" cy="1985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0000"/>
                </a:solidFill>
                <a:latin typeface="Times New Roman"/>
              </a:rPr>
              <a:t>Hallóóó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0000"/>
                </a:solidFill>
                <a:latin typeface="Times New Roman"/>
              </a:rPr>
              <a:t>de man spree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0000"/>
                </a:solidFill>
                <a:latin typeface="Times New Roman"/>
              </a:rPr>
              <a:t>NEDERLANDS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3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24720" y="11592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87280" y="404640"/>
            <a:ext cx="6104160" cy="6120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 rot="21358200">
            <a:off x="1331640" y="2565000"/>
            <a:ext cx="5790960" cy="20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25560" dir="108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Eindelijk lente,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25560" dir="108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25560" dir="108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vrouwen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25560" dir="108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25560" dir="108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in zomerkleding!!!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25560" dir="108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211880" y="4913280"/>
            <a:ext cx="19321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24720" y="11592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211880" y="4913280"/>
            <a:ext cx="193212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908000" y="1413000"/>
            <a:ext cx="5153040" cy="4200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90800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jwo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P by K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027760" y="23623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191120" y="838080"/>
            <a:ext cx="822240" cy="903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114800" y="548640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02776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113360" y="548640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191120" y="838080"/>
            <a:ext cx="822240" cy="903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6" name="be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02776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114800" y="548316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191120" y="838080"/>
            <a:ext cx="822240" cy="903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6" name="be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02776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113360" y="548316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192560" y="838080"/>
            <a:ext cx="822240" cy="903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6" name="be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2776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114800" y="548316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191120" y="838080"/>
            <a:ext cx="822240" cy="90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6" name="be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02776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113360" y="548316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192560" y="838080"/>
            <a:ext cx="822240" cy="903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6" name="be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0" spc="-1" strike="noStrike">
                <a:solidFill>
                  <a:srgbClr val="000000"/>
                </a:solidFill>
                <a:latin typeface="Comic Sans MS"/>
              </a:rPr>
              <a:t>Alléé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0" spc="-1" strike="noStrike">
                <a:solidFill>
                  <a:srgbClr val="000000"/>
                </a:solidFill>
                <a:latin typeface="Comic Sans MS"/>
              </a:rPr>
              <a:t>voo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0" spc="-1" strike="noStrike">
                <a:solidFill>
                  <a:srgbClr val="000000"/>
                </a:solidFill>
                <a:latin typeface="Comic Sans MS"/>
              </a:rPr>
              <a:t>manne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02776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113360" y="548316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192560" y="838080"/>
            <a:ext cx="822240" cy="903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6" name="be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02776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113360" y="548316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192560" y="838080"/>
            <a:ext cx="822240" cy="903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6" name="be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6212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027760" y="23605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114800" y="5483160"/>
            <a:ext cx="1050840" cy="1085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192560" y="838080"/>
            <a:ext cx="822240" cy="903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121560" y="64008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lik om verder te g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6" name="be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971800" y="21337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523880" y="5334120"/>
            <a:ext cx="628920" cy="628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960640" y="533412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4400640" y="533232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5840280" y="5332320"/>
            <a:ext cx="628920" cy="628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7280280" y="533232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1521000" y="8380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>
            <a:off x="2960640" y="8380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0"/>
          <a:stretch/>
        </p:blipFill>
        <p:spPr>
          <a:xfrm>
            <a:off x="4400640" y="8380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1"/>
          <a:stretch/>
        </p:blipFill>
        <p:spPr>
          <a:xfrm>
            <a:off x="5840280" y="838080"/>
            <a:ext cx="628920" cy="628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2"/>
          <a:stretch/>
        </p:blipFill>
        <p:spPr>
          <a:xfrm>
            <a:off x="7280280" y="838080"/>
            <a:ext cx="628560" cy="628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240" y="106632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581280" y="289548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0364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3" name="gigglesa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0" spc="-1" strike="noStrike">
                <a:solidFill>
                  <a:srgbClr val="000000"/>
                </a:solidFill>
                <a:latin typeface="Poor Richard"/>
              </a:rPr>
              <a:t>Boeren spreuk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092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843280" y="0"/>
            <a:ext cx="545616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79280" y="1844640"/>
            <a:ext cx="1656000" cy="1627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635280" y="2637000"/>
            <a:ext cx="403236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Poor Richard"/>
              </a:rPr>
              <a:t>Mengt de boer gif in de boter, dan is dat voor zijn schoonmoe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424240" y="1341360"/>
            <a:ext cx="4225680" cy="4392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0364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6600" y="0"/>
            <a:ext cx="9077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Comic Sans MS"/>
              </a:rPr>
              <a:t>Knapp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Comic Sans MS"/>
              </a:rPr>
              <a:t>po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Comic Sans MS"/>
              </a:rPr>
              <a:t>bikin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03640" y="587700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371600" y="1676520"/>
            <a:ext cx="60958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Bij de slager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1430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Een Antwerpenaar is getrouwd met een Japanse sch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Zijn vrouw spreekt echter geen woord Nederl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Gelukkig konden ze onderling wel communiceren via gebaren en een beetje Eng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De Belg werkte 6 van de 7 dagen, dikwijls tot laat in de av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Dus zijn vrouw moest dus zorgen voor de boodschappen en het ko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43200" y="3402000"/>
            <a:ext cx="36576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457200"/>
            <a:ext cx="670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Om de boodschappen te doen gebruikte ze meestal  gebare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Op een dag wou ze varkenspoten, dus ze ging naar de slag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Maar ze kwam niet verder dan “porc, porc, porc…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De slager begreep er geen snars van, dus uiteindelijk pak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de vrouw haar rok vast en trok deze omho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54864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De slager, ook niet van gisteren,  begreep h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en verkocht de vrouw 2 varkenspo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8120" y="2333520"/>
            <a:ext cx="2466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0200" y="60948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De volgende dag had ze kippenborsten nodi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Ze kwam bij de slager, maar begon weer te brabbe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en hij begreep er weer geen snars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Uiteindelijk opende ze haar blouse en liet haar r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volle en stevige borsten z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4800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De slimme slager begreep het onmiddellij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en verkocht de vrouw 2 kippenbors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48080" y="2133720"/>
            <a:ext cx="4047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19320" y="213372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66"/>
                </a:solidFill>
                <a:latin typeface="Comic Sans MS"/>
              </a:rPr>
              <a:t>De daaropvolgende dag wil de vrouw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66"/>
                </a:solidFill>
                <a:latin typeface="Comic Sans MS"/>
              </a:rPr>
              <a:t>Japanse specialiteit m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66"/>
                </a:solidFill>
                <a:latin typeface="Comic Sans MS"/>
              </a:rPr>
              <a:t>Daarvoor heeft ze witte saus nodig, d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66"/>
                </a:solidFill>
                <a:latin typeface="Comic Sans MS"/>
              </a:rPr>
              <a:t>ze neemt haar man mee naar de winkel 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8-11-21T17:42:26Z</dcterms:modified>
  <cp:revision>25</cp:revision>
  <dc:subject/>
  <dc:title>Dia 1</dc:title>
</cp:coreProperties>
</file>