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chimes.wav" ContentType="audio/x-wav"/>
  <Override PartName="/ppt/media/image36.gif" ContentType="image/gif"/>
  <Override PartName="/ppt/media/image20.jpeg" ContentType="image/jpeg"/>
  <Override PartName="/ppt/media/gigglesa.wav" ContentType="audio/x-wav"/>
  <Override PartName="/ppt/media/bee.wav" ContentType="audio/x-wav"/>
  <Override PartName="/ppt/media/image27.jpeg" ContentType="image/jpeg"/>
  <Override PartName="/ppt/media/image19.jpeg" ContentType="image/jpeg"/>
  <Override PartName="/ppt/media/image2.gif" ContentType="image/gif"/>
  <Override PartName="/ppt/media/image17.jpeg" ContentType="image/jpeg"/>
  <Override PartName="/ppt/media/image16.gif" ContentType="image/gif"/>
  <Override PartName="/ppt/media/image15.gif" ContentType="image/gif"/>
  <Override PartName="/ppt/media/image5.jpeg" ContentType="image/jpeg"/>
  <Override PartName="/ppt/media/image14.jpeg" ContentType="image/jpeg"/>
  <Override PartName="/ppt/media/beeswarm.wav" ContentType="audio/x-wav"/>
  <Override PartName="/ppt/media/image12.jpeg" ContentType="image/jpeg"/>
  <Override PartName="/ppt/media/image6.jpeg" ContentType="image/jpeg"/>
  <Override PartName="/ppt/media/image11.jpeg" ContentType="image/jpeg"/>
  <Override PartName="/ppt/media/image29.jpeg" ContentType="image/jpeg"/>
  <Override PartName="/ppt/media/image37.gif" ContentType="image/gif"/>
  <Override PartName="/ppt/media/image30.jpeg" ContentType="image/jpeg"/>
  <Override PartName="/ppt/media/image3.jpeg" ContentType="image/jpeg"/>
  <Override PartName="/ppt/media/image33.jpeg" ContentType="image/jpeg"/>
  <Override PartName="/ppt/media/drumroll.wav" ContentType="audio/x-wav"/>
  <Override PartName="/ppt/media/image24.jpeg" ContentType="image/jpeg"/>
  <Override PartName="/ppt/media/image28.jpeg" ContentType="image/jpeg"/>
  <Override PartName="/ppt/media/image32.jpeg" ContentType="image/jpeg"/>
  <Override PartName="/ppt/media/image26.jpeg" ContentType="image/jpeg"/>
  <Override PartName="/ppt/media/image35.gif" ContentType="image/gif"/>
  <Override PartName="/ppt/media/image38.jpeg" ContentType="image/jpeg"/>
  <Override PartName="/ppt/media/image39.gif" ContentType="image/gif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40.gif" ContentType="image/gif"/>
  <Override PartName="/ppt/media/image9.wmf" ContentType="image/x-wmf"/>
  <Override PartName="/ppt/media/image8.gif" ContentType="image/gif"/>
  <Override PartName="/ppt/media/image18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click.wav" ContentType="audio/x-wav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8A9-E9C7-4C8D-BFF7-CD5802F1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059-241D-4EB1-A8FE-3A6E91A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720-DEF5-4E57-9F9E-B2058B98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537-C9B1-48B6-ACCF-CE0AF6A8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CD9-D192-4793-9069-8651665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937-81E2-4999-88DD-4FE27EAF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91C-23DE-40DB-9B1F-2DC4E632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8A4-2721-4876-B6F5-49A9887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15A-400F-41CD-987F-EBAF539E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5B2-EFB6-4035-B535-053E2B07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F22-F0E8-4370-8A1A-4BC98EC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0C4-F727-4653-A021-52B8696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AB10-C90F-4457-BB6E-EF79818F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audio" Target="../media/beeswarm.wav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5.gif"/><Relationship Id="rId11" Type="http://schemas.openxmlformats.org/officeDocument/2006/relationships/image" Target="../media/image35.gif"/><Relationship Id="rId12" Type="http://schemas.openxmlformats.org/officeDocument/2006/relationships/image" Target="../media/image35.gi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audio" Target="../media/gigglesa.wav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 grapjes (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k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j de s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ote b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Bij wo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5796000" y="2060640"/>
            <a:ext cx="1368360" cy="331164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eren spre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34874" b="69244"/>
          <a:stretch/>
        </p:blipFill>
        <p:spPr>
          <a:xfrm>
            <a:off x="2362320" y="2895480"/>
            <a:ext cx="4038480" cy="838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2590920"/>
            <a:ext cx="5486400" cy="1985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0000"/>
                </a:solidFill>
                <a:latin typeface="Times New Roman"/>
              </a:rPr>
              <a:t>Hallóó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0000"/>
                </a:solidFill>
                <a:latin typeface="Times New Roman"/>
              </a:rPr>
              <a:t>de man spree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0000"/>
                </a:solidFill>
                <a:latin typeface="Times New Roman"/>
              </a:rPr>
              <a:t>NEDERLANDS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24720" y="11592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7280" y="404640"/>
            <a:ext cx="6104160" cy="612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21358200">
            <a:off x="1331640" y="2565000"/>
            <a:ext cx="579096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25560" dir="108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Eindelijk lente,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25560" dir="108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25560" dir="108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vrouwen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25560" dir="108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25560" dir="108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in zomerkleding!!!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25560" dir="108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211880" y="4913280"/>
            <a:ext cx="1932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24720" y="11592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211880" y="4913280"/>
            <a:ext cx="193212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908000" y="1413000"/>
            <a:ext cx="5153040" cy="4200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jwo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 by K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27760" y="23623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91120" y="838080"/>
            <a:ext cx="82224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114800" y="548640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113360" y="548640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1480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336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11480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11336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0" spc="-1" strike="noStrike">
                <a:solidFill>
                  <a:srgbClr val="000000"/>
                </a:solidFill>
                <a:latin typeface="Comic Sans MS"/>
              </a:rPr>
              <a:t>Alléé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0" spc="-1" strike="noStrike">
                <a:solidFill>
                  <a:srgbClr val="000000"/>
                </a:solidFill>
                <a:latin typeface="Comic Sans MS"/>
              </a:rPr>
              <a:t>voo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0" spc="-1" strike="noStrike">
                <a:solidFill>
                  <a:srgbClr val="000000"/>
                </a:solidFill>
                <a:latin typeface="Comic Sans MS"/>
              </a:rPr>
              <a:t>manne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11336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11336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11480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23880" y="5334120"/>
            <a:ext cx="628920" cy="628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960640" y="53341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400640" y="533232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5840280" y="533232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7280280" y="533232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1521000" y="838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2960640" y="838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4400640" y="838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5840280" y="8380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7280280" y="8380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240" y="10663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3" name="giggles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0" spc="-1" strike="noStrike">
                <a:solidFill>
                  <a:srgbClr val="000000"/>
                </a:solidFill>
                <a:latin typeface="Poor Richard"/>
              </a:rPr>
              <a:t>Boeren spreuk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545616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1656000" cy="1627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635280" y="2637000"/>
            <a:ext cx="403236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Poor Richard"/>
              </a:rPr>
              <a:t>Mengt de boer gif in de boter, dan is dat voor zijn schoonmoe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424240" y="1341360"/>
            <a:ext cx="422568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6600" y="0"/>
            <a:ext cx="9077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omic Sans MS"/>
              </a:rPr>
              <a:t>Knap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omic Sans MS"/>
              </a:rPr>
              <a:t>po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omic Sans MS"/>
              </a:rPr>
              <a:t>bikin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371600" y="1676520"/>
            <a:ext cx="60958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ij de slager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1430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en Antwerpenaar is getrouwd met een Japanse sch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Zijn vrouw spreekt echter geen woord Neder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Gelukkig konden ze onderling wel communiceren via gebaren en een beetje Eng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Belg werkte 6 van de 7 dagen, dikwijls tot laat in de av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us zijn vrouw moest dus zorgen voor de boodschappen en het ko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43200" y="340200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45720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Om de boodschappen te doen gebruikte ze meestal  gebare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Op een dag wou ze varkenspoten, dus ze ging naar de slag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Maar ze kwam niet verder dan “porc, porc, porc…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slager begreep er geen snars van, dus uiteindelijk pak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vrouw haar rok vast en trok deze omho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4864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slager, ook niet van gisteren,  begreep h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n verkocht de vrouw 2 varkenspo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8120" y="2333520"/>
            <a:ext cx="2466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60948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volgende dag had ze kippenborsten nodi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Ze kwam bij de slager, maar begon weer te brabb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n hij begreep er weer geen snars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Uiteindelijk opende ze haar blouse en liet haar r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volle en stevige borsten 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800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slimme slager begreep het onmiddelli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n verkocht de vrouw 2 kippenbor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8080" y="2133720"/>
            <a:ext cx="4047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9320" y="21337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66"/>
                </a:solidFill>
                <a:latin typeface="Comic Sans MS"/>
              </a:rPr>
              <a:t>De daaropvolgende dag wil de vrouw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66"/>
                </a:solidFill>
                <a:latin typeface="Comic Sans MS"/>
              </a:rPr>
              <a:t>Japanse specialiteit m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66"/>
                </a:solidFill>
                <a:latin typeface="Comic Sans MS"/>
              </a:rPr>
              <a:t>Daarvoor heeft ze witte saus nodig, d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66"/>
                </a:solidFill>
                <a:latin typeface="Comic Sans MS"/>
              </a:rPr>
              <a:t>ze neemt haar man mee naar de winkel 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8-11-21T17:42:26Z</dcterms:modified>
  <cp:revision>25</cp:revision>
  <dc:subject/>
  <dc:title>Dia 1</dc:title>
</cp:coreProperties>
</file>