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48D-18EC-4CEB-A32E-C125FD7F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506-4625-48FB-AD71-6EFDFA30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511-41EB-40BB-8C9D-FBF63ADB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351-1667-4E4A-9F64-F2663E9B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98B-C26E-40BF-8FEF-BF48FA43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F65-7139-42C5-AE6E-D47A65A7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757-E53D-49F9-B4B0-3E7E6DA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C32-6696-4BB6-A1CE-026C6962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622-0092-458B-9169-0553D8C9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CB1-37C3-419B-BE0D-5A1C044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5E5-7A30-4C97-ADC3-976A453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5D2-FB66-44FC-8BA8-0C552DC5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4242"/>
            </a:gs>
            <a:gs pos="50000">
              <a:srgbClr val="ffffff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1156-152A-44B4-AFE0-DEC1AEBD7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ceite" TargetMode="External"/><Relationship Id="rId2" Type="http://schemas.openxmlformats.org/officeDocument/2006/relationships/hyperlink" Target="http://es.wikipedia.org/wiki/Acero" TargetMode="External"/><Relationship Id="rId3" Type="http://schemas.openxmlformats.org/officeDocument/2006/relationships/hyperlink" Target="http://es.wikipedia.org/wiki/Agua_destilada" TargetMode="External"/><Relationship Id="rId4" Type="http://schemas.openxmlformats.org/officeDocument/2006/relationships/hyperlink" Target="http://es.wikipedia.org/wiki/Agua_de_mar" TargetMode="External"/><Relationship Id="rId5" Type="http://schemas.openxmlformats.org/officeDocument/2006/relationships/hyperlink" Target="http://es.wikipedia.org/wiki/Aire" TargetMode="External"/><Relationship Id="rId6" Type="http://schemas.openxmlformats.org/officeDocument/2006/relationships/hyperlink" Target="http://es.wikipedia.org/wiki/Alcohol" TargetMode="External"/><Relationship Id="rId7" Type="http://schemas.openxmlformats.org/officeDocument/2006/relationships/hyperlink" Target="http://es.wikipedia.org/wiki/Aluminio" TargetMode="External"/><Relationship Id="rId8" Type="http://schemas.openxmlformats.org/officeDocument/2006/relationships/hyperlink" Target="http://es.wikipedia.org/wiki/Caucho" TargetMode="External"/><Relationship Id="rId9" Type="http://schemas.openxmlformats.org/officeDocument/2006/relationships/hyperlink" Target="http://es.wikipedia.org/wiki/Cobre" TargetMode="External"/><Relationship Id="rId10" Type="http://schemas.openxmlformats.org/officeDocument/2006/relationships/hyperlink" Target="http://es.wikipedia.org/wiki/Gasolina" TargetMode="External"/><Relationship Id="rId11" Type="http://schemas.openxmlformats.org/officeDocument/2006/relationships/hyperlink" Target="http://es.wikipedia.org/wiki/Hielo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4242"/>
            </a:gs>
            <a:gs pos="50000">
              <a:srgbClr val="ffffff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51640" y="476280"/>
            <a:ext cx="1295640" cy="57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27640" y="549360"/>
            <a:ext cx="935280" cy="57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1224000" cy="503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549360"/>
            <a:ext cx="1655640" cy="57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628640"/>
          <a:ext cx="7775280" cy="4451400"/>
        </p:xfrm>
        <a:graphic>
          <a:graphicData uri="http://schemas.openxmlformats.org/drawingml/2006/table">
            <a:tbl>
              <a:tblPr/>
              <a:tblGrid>
                <a:gridCol w="1082520"/>
                <a:gridCol w="216000"/>
                <a:gridCol w="1406520"/>
                <a:gridCol w="1548720"/>
                <a:gridCol w="1430280"/>
                <a:gridCol w="1066680"/>
                <a:gridCol w="1024560"/>
              </a:tblGrid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Ó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NÉ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st. de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. Magnitud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. G. 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. K. 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ÉCN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. I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.t.m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 = m . 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ER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.cm/s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d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.m/s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= 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t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/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na / c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ton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p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ton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 = m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N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 / c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.t.m./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 = F . 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MENTO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A FUER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na .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 . 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/ 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 . 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 = F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na / c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b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ton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P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p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250920" y="-45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itannic Bold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Í S I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189000"/>
            <a:ext cx="57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ritannic Bold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Britannic Bold"/>
              </a:rPr>
              <a:t>rquitectura </a:t>
            </a:r>
            <a:r>
              <a:rPr b="0" lang="en-US" sz="2000" spc="-1" strike="noStrike">
                <a:solidFill>
                  <a:srgbClr val="ffffff"/>
                </a:solidFill>
                <a:latin typeface="Britannic Bold"/>
              </a:rPr>
              <a:t>  y 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Britannic Bold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Britannic Bold"/>
              </a:rPr>
              <a:t>iseño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ritannic Bold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ritannic Bold"/>
              </a:rPr>
              <a:t>ndust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6237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bla  de  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4242"/>
            </a:gs>
            <a:gs pos="50000">
              <a:srgbClr val="ffffff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ustancia  </a:t>
            </a:r>
            <a:r>
              <a:rPr b="0" lang="en-US" sz="40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D</a:t>
            </a: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ensidad   </a:t>
            </a: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M</a:t>
            </a: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ed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( en</a:t>
            </a:r>
            <a:r>
              <a:rPr b="0" lang="en-US" sz="4000" spc="-1" strike="noStrike">
                <a:solidFill>
                  <a:srgbClr val="000000"/>
                </a:solidFill>
                <a:latin typeface="Britannic Bold"/>
              </a:rPr>
              <a:t> Kg / 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Britannic Bold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1"/>
              </a:rPr>
              <a:t>Aceite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9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2"/>
              </a:rPr>
              <a:t>Acero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7.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3"/>
              </a:rPr>
              <a:t>Agua destilada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a 4ºC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4"/>
              </a:rPr>
              <a:t>Agua de mar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1.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5"/>
              </a:rPr>
              <a:t>Aire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1,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6"/>
              </a:rPr>
              <a:t>Alcohol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7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7"/>
              </a:rPr>
              <a:t>Aluminio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2.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8"/>
              </a:rPr>
              <a:t>Caucho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9"/>
              </a:rPr>
              <a:t>Cobre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8.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10"/>
              </a:rPr>
              <a:t>Gasolina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11"/>
              </a:rPr>
              <a:t>Hielo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Hierro 7.8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Hormigón armado 2.500 - 3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Madera 600 - 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Plomo11.3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Poliuretano 13 -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4242"/>
            </a:gs>
            <a:gs pos="50000">
              <a:srgbClr val="ffffff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jercicio   de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rans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492280"/>
            <a:ext cx="1729080" cy="2665440"/>
          </a:xfrm>
          <a:prstGeom prst="flowChartMagneticDisk">
            <a:avLst/>
          </a:prstGeom>
          <a:gradFill rotWithShape="0">
            <a:gsLst>
              <a:gs pos="0">
                <a:srgbClr val="435051"/>
              </a:gs>
              <a:gs pos="50000">
                <a:srgbClr val="bbe0e3"/>
              </a:gs>
              <a:gs pos="100000">
                <a:srgbClr val="435051"/>
              </a:gs>
            </a:gsLst>
            <a:lin ang="108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050920" y="1557360"/>
            <a:ext cx="0" cy="1440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1700280"/>
            <a:ext cx="86544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70028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70028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71600" y="17733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205000"/>
            <a:ext cx="7923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843280" y="1916280"/>
            <a:ext cx="0" cy="1008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220500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2205000"/>
            <a:ext cx="287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16360" y="1484280"/>
            <a:ext cx="0" cy="1440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2133720"/>
            <a:ext cx="1440000" cy="1439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435051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285264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479736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852640"/>
            <a:ext cx="0" cy="1944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78936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084720" y="3499920"/>
            <a:ext cx="503280" cy="50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400536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373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ritannic Bold"/>
              </a:rPr>
              <a:t>V = </a:t>
            </a:r>
            <a:r>
              <a:rPr b="0" lang="el-GR" sz="3600" spc="-1" strike="noStrike">
                <a:solidFill>
                  <a:srgbClr val="000000"/>
                </a:solidFill>
                <a:latin typeface="Britannic Bold"/>
              </a:rPr>
              <a:t>π</a:t>
            </a:r>
            <a:r>
              <a:rPr b="0" lang="es-ES" sz="3600" spc="-1" strike="noStrike">
                <a:solidFill>
                  <a:srgbClr val="000000"/>
                </a:solidFill>
                <a:latin typeface="Britannic Bold"/>
              </a:rPr>
              <a:t> . h ( R</a:t>
            </a:r>
            <a:r>
              <a:rPr b="0" lang="es-ES" sz="3600" spc="-1" strike="noStrike" baseline="30000">
                <a:solidFill>
                  <a:srgbClr val="000000"/>
                </a:solidFill>
                <a:latin typeface="Britannic Bold"/>
              </a:rPr>
              <a:t>2 </a:t>
            </a:r>
            <a:r>
              <a:rPr b="0" lang="es-ES" sz="3600" spc="-1" strike="noStrike">
                <a:solidFill>
                  <a:srgbClr val="000000"/>
                </a:solidFill>
                <a:latin typeface="Britannic Bold"/>
              </a:rPr>
              <a:t>– r</a:t>
            </a:r>
            <a:r>
              <a:rPr b="0" lang="es-ES" sz="3600" spc="-1" strike="noStrike" baseline="30000">
                <a:solidFill>
                  <a:srgbClr val="000000"/>
                </a:solidFill>
                <a:latin typeface="Britannic Bold"/>
              </a:rPr>
              <a:t>2</a:t>
            </a:r>
            <a:r>
              <a:rPr b="0" lang="es-ES" sz="3600" spc="-1" strike="noStrike">
                <a:solidFill>
                  <a:srgbClr val="000000"/>
                </a:solidFill>
                <a:latin typeface="Britannic Bold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0:26:06Z</dcterms:created>
  <dc:creator>Usuario</dc:creator>
  <dc:description/>
  <dc:language>en-US</dc:language>
  <cp:lastModifiedBy>Usuario</cp:lastModifiedBy>
  <dcterms:modified xsi:type="dcterms:W3CDTF">2010-03-15T10:42:12Z</dcterms:modified>
  <cp:revision>5</cp:revision>
  <dc:subject/>
  <dc:title>Diapositiva 1</dc:title>
</cp:coreProperties>
</file>