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6C1-0412-44F1-88A3-00FF78EF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B36-BA4A-47E7-9900-46FD7F4D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52D-5806-46AC-B0D2-686FCE61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344-F61D-409E-8E9C-57D8A54B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7CB-63CA-4C24-A562-4F4CCC67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045-4301-412D-A277-E23E41B3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7CE-3ED8-427A-B2D6-BD27772E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1F0-8357-48AB-AACC-C0ED1D68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CC8-E0EC-4FD7-949E-2AC05991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886-B690-40FF-9BF5-929C78EC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636-B798-4498-8C4A-07A3E917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3CB-1D5F-42DD-A1B5-A33FF9E5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4242"/>
            </a:gs>
            <a:gs pos="50000">
              <a:srgbClr val="ffffff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5170-B085-4633-8273-A09A90EE2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ceite" TargetMode="External"/><Relationship Id="rId2" Type="http://schemas.openxmlformats.org/officeDocument/2006/relationships/hyperlink" Target="http://es.wikipedia.org/wiki/Acero" TargetMode="External"/><Relationship Id="rId3" Type="http://schemas.openxmlformats.org/officeDocument/2006/relationships/hyperlink" Target="http://es.wikipedia.org/wiki/Agua_destilada" TargetMode="External"/><Relationship Id="rId4" Type="http://schemas.openxmlformats.org/officeDocument/2006/relationships/hyperlink" Target="http://es.wikipedia.org/wiki/Agua_de_mar" TargetMode="External"/><Relationship Id="rId5" Type="http://schemas.openxmlformats.org/officeDocument/2006/relationships/hyperlink" Target="http://es.wikipedia.org/wiki/Aire" TargetMode="External"/><Relationship Id="rId6" Type="http://schemas.openxmlformats.org/officeDocument/2006/relationships/hyperlink" Target="http://es.wikipedia.org/wiki/Alcohol" TargetMode="External"/><Relationship Id="rId7" Type="http://schemas.openxmlformats.org/officeDocument/2006/relationships/hyperlink" Target="http://es.wikipedia.org/wiki/Aluminio" TargetMode="External"/><Relationship Id="rId8" Type="http://schemas.openxmlformats.org/officeDocument/2006/relationships/hyperlink" Target="http://es.wikipedia.org/wiki/Caucho" TargetMode="External"/><Relationship Id="rId9" Type="http://schemas.openxmlformats.org/officeDocument/2006/relationships/hyperlink" Target="http://es.wikipedia.org/wiki/Cobre" TargetMode="External"/><Relationship Id="rId10" Type="http://schemas.openxmlformats.org/officeDocument/2006/relationships/hyperlink" Target="http://es.wikipedia.org/wiki/Gasolina" TargetMode="External"/><Relationship Id="rId11" Type="http://schemas.openxmlformats.org/officeDocument/2006/relationships/hyperlink" Target="http://es.wikipedia.org/wiki/Hielo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4242"/>
            </a:gs>
            <a:gs pos="50000">
              <a:srgbClr val="ffffff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51640" y="476280"/>
            <a:ext cx="1295640" cy="57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27640" y="549360"/>
            <a:ext cx="935280" cy="57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1224000" cy="503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549360"/>
            <a:ext cx="1655640" cy="57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628640"/>
          <a:ext cx="7775280" cy="4451400"/>
        </p:xfrm>
        <a:graphic>
          <a:graphicData uri="http://schemas.openxmlformats.org/drawingml/2006/table">
            <a:tbl>
              <a:tblPr/>
              <a:tblGrid>
                <a:gridCol w="1082520"/>
                <a:gridCol w="216000"/>
                <a:gridCol w="1406520"/>
                <a:gridCol w="1548720"/>
                <a:gridCol w="1430280"/>
                <a:gridCol w="1066680"/>
                <a:gridCol w="1024560"/>
              </a:tblGrid>
              <a:tr h="7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ÓRM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NÉ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st. de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. Magnitud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. G. 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. K. 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ÉCN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. I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.t.m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 = m . 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ER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.cm/s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 d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.m/s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= 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t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/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na / c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ton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p 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ton 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 = m/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NS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 / c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.t.m./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 = F . 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MENTO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A FUER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na .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 . 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/ 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 . 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 = F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na / c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b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ton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P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p / m</a:t>
                      </a:r>
                      <a:r>
                        <a:rPr b="1" lang="pt-BR" sz="13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250920" y="-45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itannic Bold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Í S I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189000"/>
            <a:ext cx="57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ritannic Bold"/>
              </a:rPr>
              <a:t>A</a:t>
            </a:r>
            <a:r>
              <a:rPr b="0" lang="en-US" sz="2200" spc="-1" strike="noStrike">
                <a:solidFill>
                  <a:srgbClr val="ffffff"/>
                </a:solidFill>
                <a:latin typeface="Britannic Bold"/>
              </a:rPr>
              <a:t>rquitectura </a:t>
            </a:r>
            <a:r>
              <a:rPr b="0" lang="en-US" sz="2000" spc="-1" strike="noStrike">
                <a:solidFill>
                  <a:srgbClr val="ffffff"/>
                </a:solidFill>
                <a:latin typeface="Britannic Bold"/>
              </a:rPr>
              <a:t>  y </a:t>
            </a: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Britannic Bold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Britannic Bold"/>
              </a:rPr>
              <a:t>iseño</a:t>
            </a: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Britannic Bold"/>
              </a:rPr>
              <a:t>I</a:t>
            </a:r>
            <a:r>
              <a:rPr b="0" lang="en-US" sz="2200" spc="-1" strike="noStrike">
                <a:solidFill>
                  <a:srgbClr val="ffffff"/>
                </a:solidFill>
                <a:latin typeface="Britannic Bold"/>
              </a:rPr>
              <a:t>ndust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6237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abla  de  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4242"/>
            </a:gs>
            <a:gs pos="50000">
              <a:srgbClr val="ffffff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itannic Bold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ustancia  </a:t>
            </a:r>
            <a:r>
              <a:rPr b="0" lang="en-US" sz="40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Britannic Bold"/>
              </a:rPr>
              <a:t>D</a:t>
            </a: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ensidad   </a:t>
            </a:r>
            <a:r>
              <a:rPr b="0" lang="en-US" sz="4800" spc="-1" strike="noStrike">
                <a:solidFill>
                  <a:srgbClr val="000000"/>
                </a:solidFill>
                <a:latin typeface="Britannic Bold"/>
              </a:rPr>
              <a:t>M</a:t>
            </a: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ed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( en</a:t>
            </a:r>
            <a:r>
              <a:rPr b="0" lang="en-US" sz="4000" spc="-1" strike="noStrike">
                <a:solidFill>
                  <a:srgbClr val="000000"/>
                </a:solidFill>
                <a:latin typeface="Britannic Bold"/>
              </a:rPr>
              <a:t> Kg / 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Britannic Bold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1"/>
              </a:rPr>
              <a:t>Aceite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9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2"/>
              </a:rPr>
              <a:t>Acero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7.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3"/>
              </a:rPr>
              <a:t>Agua destilada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a 4ºC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4"/>
              </a:rPr>
              <a:t>Agua de mar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1.0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5"/>
              </a:rPr>
              <a:t>Aire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1,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6"/>
              </a:rPr>
              <a:t>Alcohol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7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7"/>
              </a:rPr>
              <a:t>Aluminio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2.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8"/>
              </a:rPr>
              <a:t>Caucho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9"/>
              </a:rPr>
              <a:t>Cobre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8.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10"/>
              </a:rPr>
              <a:t>Gasolina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Britannic Bold"/>
                <a:hlinkClick r:id="rId11"/>
              </a:rPr>
              <a:t>Hielo</a:t>
            </a: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 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Hierro 7.8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Hormigón armado 2.500 - 3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Madera 600 - 9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Plomo11.3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ritannic Bold"/>
              </a:rPr>
              <a:t>Poliuretano 13 -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4242"/>
            </a:gs>
            <a:gs pos="50000">
              <a:srgbClr val="ffffff"/>
            </a:gs>
            <a:gs pos="100000">
              <a:srgbClr val="4242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jercicio   de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rans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492280"/>
            <a:ext cx="1729080" cy="2665440"/>
          </a:xfrm>
          <a:prstGeom prst="flowChartMagneticDisk">
            <a:avLst/>
          </a:prstGeom>
          <a:gradFill rotWithShape="0">
            <a:gsLst>
              <a:gs pos="0">
                <a:srgbClr val="435051"/>
              </a:gs>
              <a:gs pos="50000">
                <a:srgbClr val="bbe0e3"/>
              </a:gs>
              <a:gs pos="100000">
                <a:srgbClr val="435051"/>
              </a:gs>
            </a:gsLst>
            <a:lin ang="108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050920" y="1557360"/>
            <a:ext cx="0" cy="1440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1700280"/>
            <a:ext cx="86544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70028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70028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71600" y="17733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205000"/>
            <a:ext cx="7923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843280" y="1916280"/>
            <a:ext cx="0" cy="1008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2205000"/>
            <a:ext cx="287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2205000"/>
            <a:ext cx="287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916360" y="1484280"/>
            <a:ext cx="0" cy="1440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2133720"/>
            <a:ext cx="1440000" cy="1439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435051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285264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479736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852640"/>
            <a:ext cx="0" cy="19447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78936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084720" y="3499920"/>
            <a:ext cx="503280" cy="505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400536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5373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ritannic Bold"/>
              </a:rPr>
              <a:t>V = </a:t>
            </a:r>
            <a:r>
              <a:rPr b="0" lang="el-GR" sz="3600" spc="-1" strike="noStrike">
                <a:solidFill>
                  <a:srgbClr val="000000"/>
                </a:solidFill>
                <a:latin typeface="Britannic Bold"/>
              </a:rPr>
              <a:t>π</a:t>
            </a:r>
            <a:r>
              <a:rPr b="0" lang="es-ES" sz="3600" spc="-1" strike="noStrike">
                <a:solidFill>
                  <a:srgbClr val="000000"/>
                </a:solidFill>
                <a:latin typeface="Britannic Bold"/>
              </a:rPr>
              <a:t> . h ( R</a:t>
            </a:r>
            <a:r>
              <a:rPr b="0" lang="es-ES" sz="3600" spc="-1" strike="noStrike" baseline="30000">
                <a:solidFill>
                  <a:srgbClr val="000000"/>
                </a:solidFill>
                <a:latin typeface="Britannic Bold"/>
              </a:rPr>
              <a:t>2 </a:t>
            </a:r>
            <a:r>
              <a:rPr b="0" lang="es-ES" sz="3600" spc="-1" strike="noStrike">
                <a:solidFill>
                  <a:srgbClr val="000000"/>
                </a:solidFill>
                <a:latin typeface="Britannic Bold"/>
              </a:rPr>
              <a:t>– r</a:t>
            </a:r>
            <a:r>
              <a:rPr b="0" lang="es-ES" sz="3600" spc="-1" strike="noStrike" baseline="30000">
                <a:solidFill>
                  <a:srgbClr val="000000"/>
                </a:solidFill>
                <a:latin typeface="Britannic Bold"/>
              </a:rPr>
              <a:t>2</a:t>
            </a:r>
            <a:r>
              <a:rPr b="0" lang="es-ES" sz="3600" spc="-1" strike="noStrike">
                <a:solidFill>
                  <a:srgbClr val="000000"/>
                </a:solidFill>
                <a:latin typeface="Britannic Bold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0:26:06Z</dcterms:created>
  <dc:creator>Usuario</dc:creator>
  <dc:description/>
  <dc:language>en-US</dc:language>
  <cp:lastModifiedBy>Usuario</cp:lastModifiedBy>
  <dcterms:modified xsi:type="dcterms:W3CDTF">2010-03-15T10:42:12Z</dcterms:modified>
  <cp:revision>5</cp:revision>
  <dc:subject/>
  <dc:title>Diapositiva 1</dc:title>
</cp:coreProperties>
</file>