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BA6-8180-4C59-BAD3-13BEB695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13C-CD02-4435-8381-441605BE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165-C6EB-48CB-9B5E-284D0C51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3A4B-38EC-41FD-9664-8FCB6A1C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706-87F0-424B-992E-37C3CC62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362-BD9C-449B-99B9-9FB61A1B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ACE-9CF5-4E75-8D71-E25B3FD6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6821-3C47-4566-AAC7-EF44F8FC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ABD-A00B-4E49-808B-E086EA9C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343-459F-4E12-9F8B-ED20A142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BA5-69A5-41DA-A072-F4B2B181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E60-A87E-4EBE-AC4D-46B9ADBE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7FBF2-5EB9-4038-A3E5-9D3B5563839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0F51B-6EC1-4841-8917-6FDF78670A9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58:41Z</dcterms:created>
  <dc:creator>최봉수</dc:creator>
  <dc:description/>
  <dc:language>en-US</dc:language>
  <cp:lastModifiedBy>맛있다 군만두</cp:lastModifiedBy>
  <dcterms:modified xsi:type="dcterms:W3CDTF">2024-10-01T03:09:32Z</dcterms:modified>
  <cp:revision>4</cp:revision>
  <dc:subject/>
  <dc:title>슬라이드 1</dc:title>
</cp:coreProperties>
</file>