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AB0-E674-4523-851E-019872C0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417-5FD0-4BD8-9955-3BCCC19D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E12-05D6-4024-A8C1-48C73DEF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332-CE68-4E52-8AAC-D185EC57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457-C7AE-4D6A-84FF-CFFFC66A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C33-8303-4FD8-B2A0-2B63E48D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B70-D9E2-47B9-8C79-DAC5454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70D-EDD3-42D0-B987-7D3EE3EF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66A-B46C-4531-83A3-89677678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637-043A-40D1-86F0-394A928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9D0-DCAA-430D-BBFF-712DA257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96C-2467-408F-B1BE-126468C2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1B91C-5589-4BE3-815A-B59B9DCAA4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887FB-C1AD-4EE2-B8EA-5C2059B1A65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6:58:41Z</dcterms:created>
  <dc:creator>최봉수</dc:creator>
  <dc:description/>
  <dc:language>en-US</dc:language>
  <cp:lastModifiedBy>맛있다 군만두</cp:lastModifiedBy>
  <dcterms:modified xsi:type="dcterms:W3CDTF">2024-10-01T03:09:32Z</dcterms:modified>
  <cp:revision>4</cp:revision>
  <dc:subject/>
  <dc:title>슬라이드 1</dc:title>
</cp:coreProperties>
</file>