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11.gif" ContentType="image/gif"/>
  <Override PartName="/ppt/media/image6.jpeg" ContentType="image/jpeg"/>
  <Override PartName="/ppt/media/image7.jpeg" ContentType="image/jpeg"/>
  <Override PartName="/ppt/media/image8.jpeg" ContentType="image/jpeg"/>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B0CEA-E5CB-43A4-AF35-E21C36E14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A66F8-28C8-4DE7-995B-61A0BCE51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FD9AE-152D-426E-A308-A08541634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8D7F4-704D-4ACF-A810-ECDD85338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FE9DCB-0463-4A3C-B9FE-C6304B3389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7305C-21F2-4F91-9DED-CEAB78A70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3F838-B77A-4260-AF1E-6211A6554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2FBF1-9B1F-4CF4-B636-6381054F9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32791-1126-4FD8-97C6-08E0F97DA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D64FBF-C60D-4D9B-9E15-66317DD7B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6E5A8-FB0B-4BF1-A5C7-D43FC2BE0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154DD-2AB7-4BAB-994C-AF82734D9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786DF-F7B1-4D98-ADD3-7F7DF9F35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BEF2A-D7A6-4545-90A0-31E8AA0A1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AF2F4-F67B-4243-AE22-176A6FA8E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1E7CA3-604F-41E0-8F58-50DF011600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88E305-80F8-400C-9C3E-3A0F518DBC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ACB62-EAC0-4EF9-AF8F-E9939663A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12018-A661-4EEC-B5C7-57F5F43F9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B4991-75CF-4679-8089-97C708724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E748E-72AB-47CB-8294-15CC0F39E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18818-A2DE-4124-82E6-7E2AF7BED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373B3-8D39-40EA-877B-EDAD9C0D9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4D1E3-086C-43BD-AEE5-97F805A696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12600" y="5702400"/>
            <a:ext cx="9175680" cy="1171440"/>
            <a:chOff x="-12600" y="5702400"/>
            <a:chExt cx="9175680" cy="1171440"/>
          </a:xfrm>
        </p:grpSpPr>
        <p:sp>
          <p:nvSpPr>
            <p:cNvPr id="1" name=""/>
            <p:cNvSpPr/>
            <p:nvPr/>
          </p:nvSpPr>
          <p:spPr>
            <a:xfrm>
              <a:off x="111240" y="5702400"/>
              <a:ext cx="8997840" cy="928440"/>
            </a:xfrm>
            <a:custGeom>
              <a:avLst/>
              <a:gdLst/>
              <a:ahLst/>
              <a:rect l="l" t="t" r="r" b="b"/>
              <a:pathLst>
                <a:path w="5668" h="585">
                  <a:moveTo>
                    <a:pt x="0" y="94"/>
                  </a:moveTo>
                  <a:lnTo>
                    <a:pt x="4" y="584"/>
                  </a:lnTo>
                  <a:lnTo>
                    <a:pt x="5667" y="584"/>
                  </a:lnTo>
                  <a:lnTo>
                    <a:pt x="5650" y="94"/>
                  </a:lnTo>
                  <a:lnTo>
                    <a:pt x="5555" y="0"/>
                  </a:lnTo>
                  <a:lnTo>
                    <a:pt x="5460" y="94"/>
                  </a:lnTo>
                  <a:lnTo>
                    <a:pt x="5365" y="0"/>
                  </a:lnTo>
                  <a:lnTo>
                    <a:pt x="5270" y="94"/>
                  </a:lnTo>
                  <a:lnTo>
                    <a:pt x="5175" y="0"/>
                  </a:lnTo>
                  <a:lnTo>
                    <a:pt x="5080" y="94"/>
                  </a:lnTo>
                  <a:lnTo>
                    <a:pt x="4985" y="0"/>
                  </a:lnTo>
                  <a:lnTo>
                    <a:pt x="4890" y="94"/>
                  </a:lnTo>
                  <a:lnTo>
                    <a:pt x="4795" y="0"/>
                  </a:lnTo>
                  <a:lnTo>
                    <a:pt x="4700" y="94"/>
                  </a:lnTo>
                  <a:lnTo>
                    <a:pt x="4606" y="0"/>
                  </a:lnTo>
                  <a:lnTo>
                    <a:pt x="4510" y="94"/>
                  </a:lnTo>
                  <a:lnTo>
                    <a:pt x="4416" y="0"/>
                  </a:lnTo>
                  <a:lnTo>
                    <a:pt x="4320" y="94"/>
                  </a:lnTo>
                  <a:lnTo>
                    <a:pt x="4225" y="0"/>
                  </a:lnTo>
                  <a:lnTo>
                    <a:pt x="4131" y="94"/>
                  </a:lnTo>
                  <a:lnTo>
                    <a:pt x="4035" y="0"/>
                  </a:lnTo>
                  <a:lnTo>
                    <a:pt x="3941" y="94"/>
                  </a:lnTo>
                  <a:lnTo>
                    <a:pt x="3846" y="0"/>
                  </a:lnTo>
                  <a:lnTo>
                    <a:pt x="3750" y="94"/>
                  </a:lnTo>
                  <a:lnTo>
                    <a:pt x="3656" y="0"/>
                  </a:lnTo>
                  <a:lnTo>
                    <a:pt x="3560" y="94"/>
                  </a:lnTo>
                  <a:lnTo>
                    <a:pt x="3466" y="0"/>
                  </a:lnTo>
                  <a:lnTo>
                    <a:pt x="3371" y="94"/>
                  </a:lnTo>
                  <a:lnTo>
                    <a:pt x="3275" y="0"/>
                  </a:lnTo>
                  <a:lnTo>
                    <a:pt x="3258" y="77"/>
                  </a:lnTo>
                  <a:lnTo>
                    <a:pt x="3252" y="159"/>
                  </a:lnTo>
                  <a:lnTo>
                    <a:pt x="3223" y="235"/>
                  </a:lnTo>
                  <a:lnTo>
                    <a:pt x="3187" y="318"/>
                  </a:lnTo>
                  <a:lnTo>
                    <a:pt x="3127" y="382"/>
                  </a:lnTo>
                  <a:lnTo>
                    <a:pt x="3056" y="441"/>
                  </a:lnTo>
                  <a:lnTo>
                    <a:pt x="2932" y="488"/>
                  </a:lnTo>
                  <a:lnTo>
                    <a:pt x="2825" y="500"/>
                  </a:lnTo>
                  <a:lnTo>
                    <a:pt x="2724" y="476"/>
                  </a:lnTo>
                  <a:lnTo>
                    <a:pt x="2629" y="441"/>
                  </a:lnTo>
                  <a:lnTo>
                    <a:pt x="2534" y="352"/>
                  </a:lnTo>
                  <a:lnTo>
                    <a:pt x="2475" y="259"/>
                  </a:lnTo>
                  <a:lnTo>
                    <a:pt x="2451" y="171"/>
                  </a:lnTo>
                  <a:lnTo>
                    <a:pt x="2433" y="95"/>
                  </a:lnTo>
                  <a:lnTo>
                    <a:pt x="2373" y="0"/>
                  </a:lnTo>
                  <a:lnTo>
                    <a:pt x="2279" y="94"/>
                  </a:lnTo>
                  <a:lnTo>
                    <a:pt x="2184" y="0"/>
                  </a:lnTo>
                  <a:lnTo>
                    <a:pt x="2089" y="94"/>
                  </a:lnTo>
                  <a:lnTo>
                    <a:pt x="1994" y="0"/>
                  </a:lnTo>
                  <a:lnTo>
                    <a:pt x="1898" y="94"/>
                  </a:lnTo>
                  <a:lnTo>
                    <a:pt x="1804" y="0"/>
                  </a:lnTo>
                  <a:lnTo>
                    <a:pt x="1709" y="94"/>
                  </a:lnTo>
                  <a:lnTo>
                    <a:pt x="1614" y="0"/>
                  </a:lnTo>
                  <a:lnTo>
                    <a:pt x="1519" y="94"/>
                  </a:lnTo>
                  <a:lnTo>
                    <a:pt x="1424" y="0"/>
                  </a:lnTo>
                  <a:lnTo>
                    <a:pt x="1329" y="94"/>
                  </a:lnTo>
                  <a:lnTo>
                    <a:pt x="1220" y="0"/>
                  </a:lnTo>
                  <a:lnTo>
                    <a:pt x="1139" y="94"/>
                  </a:lnTo>
                  <a:lnTo>
                    <a:pt x="1044" y="0"/>
                  </a:lnTo>
                  <a:lnTo>
                    <a:pt x="949" y="94"/>
                  </a:lnTo>
                  <a:lnTo>
                    <a:pt x="854" y="0"/>
                  </a:lnTo>
                  <a:lnTo>
                    <a:pt x="759" y="94"/>
                  </a:lnTo>
                  <a:lnTo>
                    <a:pt x="665" y="0"/>
                  </a:lnTo>
                  <a:lnTo>
                    <a:pt x="569" y="94"/>
                  </a:lnTo>
                  <a:lnTo>
                    <a:pt x="474" y="0"/>
                  </a:lnTo>
                  <a:lnTo>
                    <a:pt x="379" y="94"/>
                  </a:lnTo>
                  <a:lnTo>
                    <a:pt x="284" y="0"/>
                  </a:lnTo>
                  <a:lnTo>
                    <a:pt x="195" y="94"/>
                  </a:lnTo>
                  <a:lnTo>
                    <a:pt x="94" y="0"/>
                  </a:lnTo>
                  <a:lnTo>
                    <a:pt x="0" y="94"/>
                  </a:lnTo>
                </a:path>
              </a:pathLst>
            </a:custGeom>
            <a:solidFill>
              <a:srgbClr val="868686">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12600" y="5743440"/>
              <a:ext cx="9175680" cy="1130400"/>
            </a:xfrm>
            <a:custGeom>
              <a:avLst/>
              <a:gdLst/>
              <a:ahLst/>
              <a:rect l="l" t="t" r="r" b="b"/>
              <a:pathLst>
                <a:path w="5780" h="712">
                  <a:moveTo>
                    <a:pt x="0" y="96"/>
                  </a:moveTo>
                  <a:lnTo>
                    <a:pt x="0" y="711"/>
                  </a:lnTo>
                  <a:lnTo>
                    <a:pt x="5777" y="711"/>
                  </a:lnTo>
                  <a:lnTo>
                    <a:pt x="5779" y="0"/>
                  </a:lnTo>
                  <a:lnTo>
                    <a:pt x="5718" y="96"/>
                  </a:lnTo>
                  <a:lnTo>
                    <a:pt x="5621" y="0"/>
                  </a:lnTo>
                  <a:lnTo>
                    <a:pt x="5525" y="96"/>
                  </a:lnTo>
                  <a:lnTo>
                    <a:pt x="5430" y="0"/>
                  </a:lnTo>
                  <a:lnTo>
                    <a:pt x="5333" y="96"/>
                  </a:lnTo>
                  <a:lnTo>
                    <a:pt x="5237" y="0"/>
                  </a:lnTo>
                  <a:lnTo>
                    <a:pt x="5140" y="96"/>
                  </a:lnTo>
                  <a:lnTo>
                    <a:pt x="5045" y="0"/>
                  </a:lnTo>
                  <a:lnTo>
                    <a:pt x="4949" y="96"/>
                  </a:lnTo>
                  <a:lnTo>
                    <a:pt x="4852" y="0"/>
                  </a:lnTo>
                  <a:lnTo>
                    <a:pt x="4756" y="96"/>
                  </a:lnTo>
                  <a:lnTo>
                    <a:pt x="4661" y="0"/>
                  </a:lnTo>
                  <a:lnTo>
                    <a:pt x="4564" y="96"/>
                  </a:lnTo>
                  <a:lnTo>
                    <a:pt x="4468" y="0"/>
                  </a:lnTo>
                  <a:lnTo>
                    <a:pt x="4372" y="96"/>
                  </a:lnTo>
                  <a:lnTo>
                    <a:pt x="4276" y="0"/>
                  </a:lnTo>
                  <a:lnTo>
                    <a:pt x="4180" y="96"/>
                  </a:lnTo>
                  <a:lnTo>
                    <a:pt x="4083" y="0"/>
                  </a:lnTo>
                  <a:lnTo>
                    <a:pt x="3988" y="96"/>
                  </a:lnTo>
                  <a:lnTo>
                    <a:pt x="3892" y="0"/>
                  </a:lnTo>
                  <a:lnTo>
                    <a:pt x="3795" y="96"/>
                  </a:lnTo>
                  <a:lnTo>
                    <a:pt x="3700" y="1"/>
                  </a:lnTo>
                  <a:lnTo>
                    <a:pt x="3603" y="96"/>
                  </a:lnTo>
                  <a:lnTo>
                    <a:pt x="3507" y="0"/>
                  </a:lnTo>
                  <a:lnTo>
                    <a:pt x="3411" y="96"/>
                  </a:lnTo>
                  <a:lnTo>
                    <a:pt x="3315" y="1"/>
                  </a:lnTo>
                  <a:lnTo>
                    <a:pt x="3297" y="79"/>
                  </a:lnTo>
                  <a:lnTo>
                    <a:pt x="3291" y="162"/>
                  </a:lnTo>
                  <a:lnTo>
                    <a:pt x="3261" y="241"/>
                  </a:lnTo>
                  <a:lnTo>
                    <a:pt x="3225" y="325"/>
                  </a:lnTo>
                  <a:lnTo>
                    <a:pt x="3164" y="390"/>
                  </a:lnTo>
                  <a:lnTo>
                    <a:pt x="3092" y="450"/>
                  </a:lnTo>
                  <a:lnTo>
                    <a:pt x="2967" y="499"/>
                  </a:lnTo>
                  <a:lnTo>
                    <a:pt x="2859" y="511"/>
                  </a:lnTo>
                  <a:lnTo>
                    <a:pt x="2757" y="487"/>
                  </a:lnTo>
                  <a:lnTo>
                    <a:pt x="2660" y="450"/>
                  </a:lnTo>
                  <a:lnTo>
                    <a:pt x="2564" y="360"/>
                  </a:lnTo>
                  <a:lnTo>
                    <a:pt x="2505" y="265"/>
                  </a:lnTo>
                  <a:lnTo>
                    <a:pt x="2480" y="174"/>
                  </a:lnTo>
                  <a:lnTo>
                    <a:pt x="2462" y="97"/>
                  </a:lnTo>
                  <a:lnTo>
                    <a:pt x="2402" y="0"/>
                  </a:lnTo>
                  <a:lnTo>
                    <a:pt x="2306" y="96"/>
                  </a:lnTo>
                  <a:lnTo>
                    <a:pt x="2210" y="0"/>
                  </a:lnTo>
                  <a:lnTo>
                    <a:pt x="2113" y="96"/>
                  </a:lnTo>
                  <a:lnTo>
                    <a:pt x="2018" y="0"/>
                  </a:lnTo>
                  <a:lnTo>
                    <a:pt x="1921" y="96"/>
                  </a:lnTo>
                  <a:lnTo>
                    <a:pt x="1825" y="0"/>
                  </a:lnTo>
                  <a:lnTo>
                    <a:pt x="1730" y="96"/>
                  </a:lnTo>
                  <a:lnTo>
                    <a:pt x="1633" y="0"/>
                  </a:lnTo>
                  <a:lnTo>
                    <a:pt x="1537" y="96"/>
                  </a:lnTo>
                  <a:lnTo>
                    <a:pt x="1441" y="0"/>
                  </a:lnTo>
                  <a:lnTo>
                    <a:pt x="1345" y="96"/>
                  </a:lnTo>
                  <a:lnTo>
                    <a:pt x="1235" y="0"/>
                  </a:lnTo>
                  <a:lnTo>
                    <a:pt x="1152" y="96"/>
                  </a:lnTo>
                  <a:lnTo>
                    <a:pt x="1056" y="0"/>
                  </a:lnTo>
                  <a:lnTo>
                    <a:pt x="961" y="96"/>
                  </a:lnTo>
                  <a:lnTo>
                    <a:pt x="864" y="0"/>
                  </a:lnTo>
                  <a:lnTo>
                    <a:pt x="768" y="96"/>
                  </a:lnTo>
                  <a:lnTo>
                    <a:pt x="673" y="0"/>
                  </a:lnTo>
                  <a:lnTo>
                    <a:pt x="576" y="96"/>
                  </a:lnTo>
                  <a:lnTo>
                    <a:pt x="480" y="0"/>
                  </a:lnTo>
                  <a:lnTo>
                    <a:pt x="383" y="96"/>
                  </a:lnTo>
                  <a:lnTo>
                    <a:pt x="288" y="0"/>
                  </a:lnTo>
                  <a:lnTo>
                    <a:pt x="197" y="96"/>
                  </a:lnTo>
                  <a:lnTo>
                    <a:pt x="95" y="0"/>
                  </a:lnTo>
                  <a:lnTo>
                    <a:pt x="0" y="96"/>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10980-0681-4202-83EA-DB9CBD4BE5A7}"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grpSp>
        <p:nvGrpSpPr>
          <p:cNvPr id="44" name=""/>
          <p:cNvGrpSpPr/>
          <p:nvPr/>
        </p:nvGrpSpPr>
        <p:grpSpPr>
          <a:xfrm>
            <a:off x="0" y="3416400"/>
            <a:ext cx="9167760" cy="3457440"/>
            <a:chOff x="0" y="3416400"/>
            <a:chExt cx="9167760" cy="3457440"/>
          </a:xfrm>
        </p:grpSpPr>
        <p:sp>
          <p:nvSpPr>
            <p:cNvPr id="45" name=""/>
            <p:cNvSpPr/>
            <p:nvPr/>
          </p:nvSpPr>
          <p:spPr>
            <a:xfrm>
              <a:off x="146160" y="3416400"/>
              <a:ext cx="8993160" cy="3436920"/>
            </a:xfrm>
            <a:custGeom>
              <a:avLst/>
              <a:gdLst/>
              <a:ahLst/>
              <a:rect l="l" t="t" r="r" b="b"/>
              <a:pathLst>
                <a:path w="5665" h="2165">
                  <a:moveTo>
                    <a:pt x="0" y="94"/>
                  </a:moveTo>
                  <a:lnTo>
                    <a:pt x="0" y="2123"/>
                  </a:lnTo>
                  <a:lnTo>
                    <a:pt x="5664" y="2164"/>
                  </a:lnTo>
                  <a:lnTo>
                    <a:pt x="5650" y="94"/>
                  </a:lnTo>
                  <a:lnTo>
                    <a:pt x="5555" y="0"/>
                  </a:lnTo>
                  <a:lnTo>
                    <a:pt x="5460" y="94"/>
                  </a:lnTo>
                  <a:lnTo>
                    <a:pt x="5366" y="0"/>
                  </a:lnTo>
                  <a:lnTo>
                    <a:pt x="5270" y="94"/>
                  </a:lnTo>
                  <a:lnTo>
                    <a:pt x="5175" y="0"/>
                  </a:lnTo>
                  <a:lnTo>
                    <a:pt x="5080" y="94"/>
                  </a:lnTo>
                  <a:lnTo>
                    <a:pt x="4985" y="0"/>
                  </a:lnTo>
                  <a:lnTo>
                    <a:pt x="4891" y="94"/>
                  </a:lnTo>
                  <a:lnTo>
                    <a:pt x="4795" y="0"/>
                  </a:lnTo>
                  <a:lnTo>
                    <a:pt x="4700" y="94"/>
                  </a:lnTo>
                  <a:lnTo>
                    <a:pt x="4606" y="0"/>
                  </a:lnTo>
                  <a:lnTo>
                    <a:pt x="4510" y="94"/>
                  </a:lnTo>
                  <a:lnTo>
                    <a:pt x="4416" y="0"/>
                  </a:lnTo>
                  <a:lnTo>
                    <a:pt x="4320" y="94"/>
                  </a:lnTo>
                  <a:lnTo>
                    <a:pt x="4225" y="0"/>
                  </a:lnTo>
                  <a:lnTo>
                    <a:pt x="4131" y="94"/>
                  </a:lnTo>
                  <a:lnTo>
                    <a:pt x="4035" y="0"/>
                  </a:lnTo>
                  <a:lnTo>
                    <a:pt x="3941" y="94"/>
                  </a:lnTo>
                  <a:lnTo>
                    <a:pt x="3846" y="0"/>
                  </a:lnTo>
                  <a:lnTo>
                    <a:pt x="3750" y="94"/>
                  </a:lnTo>
                  <a:lnTo>
                    <a:pt x="3656" y="0"/>
                  </a:lnTo>
                  <a:lnTo>
                    <a:pt x="3560" y="94"/>
                  </a:lnTo>
                  <a:lnTo>
                    <a:pt x="3466" y="0"/>
                  </a:lnTo>
                  <a:lnTo>
                    <a:pt x="3371" y="94"/>
                  </a:lnTo>
                  <a:lnTo>
                    <a:pt x="3275" y="0"/>
                  </a:lnTo>
                  <a:lnTo>
                    <a:pt x="3258" y="77"/>
                  </a:lnTo>
                  <a:lnTo>
                    <a:pt x="3252" y="159"/>
                  </a:lnTo>
                  <a:lnTo>
                    <a:pt x="3223" y="235"/>
                  </a:lnTo>
                  <a:lnTo>
                    <a:pt x="3187" y="318"/>
                  </a:lnTo>
                  <a:lnTo>
                    <a:pt x="3127" y="382"/>
                  </a:lnTo>
                  <a:lnTo>
                    <a:pt x="3056" y="441"/>
                  </a:lnTo>
                  <a:lnTo>
                    <a:pt x="2932" y="488"/>
                  </a:lnTo>
                  <a:lnTo>
                    <a:pt x="2825" y="500"/>
                  </a:lnTo>
                  <a:lnTo>
                    <a:pt x="2724" y="476"/>
                  </a:lnTo>
                  <a:lnTo>
                    <a:pt x="2629" y="441"/>
                  </a:lnTo>
                  <a:lnTo>
                    <a:pt x="2534" y="352"/>
                  </a:lnTo>
                  <a:lnTo>
                    <a:pt x="2475" y="259"/>
                  </a:lnTo>
                  <a:lnTo>
                    <a:pt x="2451" y="171"/>
                  </a:lnTo>
                  <a:lnTo>
                    <a:pt x="2433" y="95"/>
                  </a:lnTo>
                  <a:lnTo>
                    <a:pt x="2373" y="0"/>
                  </a:lnTo>
                  <a:lnTo>
                    <a:pt x="2279" y="94"/>
                  </a:lnTo>
                  <a:lnTo>
                    <a:pt x="2184" y="0"/>
                  </a:lnTo>
                  <a:lnTo>
                    <a:pt x="2089" y="94"/>
                  </a:lnTo>
                  <a:lnTo>
                    <a:pt x="1994" y="0"/>
                  </a:lnTo>
                  <a:lnTo>
                    <a:pt x="1898" y="94"/>
                  </a:lnTo>
                  <a:lnTo>
                    <a:pt x="1804" y="0"/>
                  </a:lnTo>
                  <a:lnTo>
                    <a:pt x="1709" y="94"/>
                  </a:lnTo>
                  <a:lnTo>
                    <a:pt x="1614" y="0"/>
                  </a:lnTo>
                  <a:lnTo>
                    <a:pt x="1519" y="94"/>
                  </a:lnTo>
                  <a:lnTo>
                    <a:pt x="1424" y="0"/>
                  </a:lnTo>
                  <a:lnTo>
                    <a:pt x="1329" y="94"/>
                  </a:lnTo>
                  <a:lnTo>
                    <a:pt x="1220" y="0"/>
                  </a:lnTo>
                  <a:lnTo>
                    <a:pt x="1139" y="94"/>
                  </a:lnTo>
                  <a:lnTo>
                    <a:pt x="1044" y="0"/>
                  </a:lnTo>
                  <a:lnTo>
                    <a:pt x="949" y="94"/>
                  </a:lnTo>
                  <a:lnTo>
                    <a:pt x="854" y="0"/>
                  </a:lnTo>
                  <a:lnTo>
                    <a:pt x="759" y="94"/>
                  </a:lnTo>
                  <a:lnTo>
                    <a:pt x="665" y="0"/>
                  </a:lnTo>
                  <a:lnTo>
                    <a:pt x="569" y="94"/>
                  </a:lnTo>
                  <a:lnTo>
                    <a:pt x="474" y="0"/>
                  </a:lnTo>
                  <a:lnTo>
                    <a:pt x="379" y="94"/>
                  </a:lnTo>
                  <a:lnTo>
                    <a:pt x="284" y="0"/>
                  </a:lnTo>
                  <a:lnTo>
                    <a:pt x="195" y="94"/>
                  </a:lnTo>
                  <a:lnTo>
                    <a:pt x="94" y="0"/>
                  </a:lnTo>
                  <a:lnTo>
                    <a:pt x="0" y="94"/>
                  </a:lnTo>
                </a:path>
              </a:pathLst>
            </a:custGeom>
            <a:solidFill>
              <a:srgbClr val="868686">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0" y="3427560"/>
              <a:ext cx="9167760" cy="3446280"/>
            </a:xfrm>
            <a:custGeom>
              <a:avLst/>
              <a:gdLst/>
              <a:ahLst/>
              <a:rect l="l" t="t" r="r" b="b"/>
              <a:pathLst>
                <a:path w="5775" h="2171">
                  <a:moveTo>
                    <a:pt x="0" y="96"/>
                  </a:moveTo>
                  <a:lnTo>
                    <a:pt x="0" y="2170"/>
                  </a:lnTo>
                  <a:lnTo>
                    <a:pt x="5774" y="2170"/>
                  </a:lnTo>
                  <a:lnTo>
                    <a:pt x="5772" y="0"/>
                  </a:lnTo>
                  <a:lnTo>
                    <a:pt x="5712" y="96"/>
                  </a:lnTo>
                  <a:lnTo>
                    <a:pt x="5615" y="0"/>
                  </a:lnTo>
                  <a:lnTo>
                    <a:pt x="5520" y="96"/>
                  </a:lnTo>
                  <a:lnTo>
                    <a:pt x="5424" y="0"/>
                  </a:lnTo>
                  <a:lnTo>
                    <a:pt x="5327" y="96"/>
                  </a:lnTo>
                  <a:lnTo>
                    <a:pt x="5232" y="0"/>
                  </a:lnTo>
                  <a:lnTo>
                    <a:pt x="5135" y="96"/>
                  </a:lnTo>
                  <a:lnTo>
                    <a:pt x="5039" y="0"/>
                  </a:lnTo>
                  <a:lnTo>
                    <a:pt x="4944" y="96"/>
                  </a:lnTo>
                  <a:lnTo>
                    <a:pt x="4847" y="0"/>
                  </a:lnTo>
                  <a:lnTo>
                    <a:pt x="4752" y="96"/>
                  </a:lnTo>
                  <a:lnTo>
                    <a:pt x="4656" y="0"/>
                  </a:lnTo>
                  <a:lnTo>
                    <a:pt x="4559" y="96"/>
                  </a:lnTo>
                  <a:lnTo>
                    <a:pt x="4464" y="0"/>
                  </a:lnTo>
                  <a:lnTo>
                    <a:pt x="4367" y="96"/>
                  </a:lnTo>
                  <a:lnTo>
                    <a:pt x="4271" y="0"/>
                  </a:lnTo>
                  <a:lnTo>
                    <a:pt x="4176" y="96"/>
                  </a:lnTo>
                  <a:lnTo>
                    <a:pt x="4079" y="0"/>
                  </a:lnTo>
                  <a:lnTo>
                    <a:pt x="3984" y="96"/>
                  </a:lnTo>
                  <a:lnTo>
                    <a:pt x="3888" y="0"/>
                  </a:lnTo>
                  <a:lnTo>
                    <a:pt x="3791" y="96"/>
                  </a:lnTo>
                  <a:lnTo>
                    <a:pt x="3696" y="1"/>
                  </a:lnTo>
                  <a:lnTo>
                    <a:pt x="3599" y="96"/>
                  </a:lnTo>
                  <a:lnTo>
                    <a:pt x="3503" y="0"/>
                  </a:lnTo>
                  <a:lnTo>
                    <a:pt x="3408" y="96"/>
                  </a:lnTo>
                  <a:lnTo>
                    <a:pt x="3311" y="1"/>
                  </a:lnTo>
                  <a:lnTo>
                    <a:pt x="3294" y="79"/>
                  </a:lnTo>
                  <a:lnTo>
                    <a:pt x="3287" y="162"/>
                  </a:lnTo>
                  <a:lnTo>
                    <a:pt x="3258" y="241"/>
                  </a:lnTo>
                  <a:lnTo>
                    <a:pt x="3222" y="325"/>
                  </a:lnTo>
                  <a:lnTo>
                    <a:pt x="3161" y="390"/>
                  </a:lnTo>
                  <a:lnTo>
                    <a:pt x="3089" y="451"/>
                  </a:lnTo>
                  <a:lnTo>
                    <a:pt x="2964" y="499"/>
                  </a:lnTo>
                  <a:lnTo>
                    <a:pt x="2856" y="511"/>
                  </a:lnTo>
                  <a:lnTo>
                    <a:pt x="2754" y="487"/>
                  </a:lnTo>
                  <a:lnTo>
                    <a:pt x="2657" y="451"/>
                  </a:lnTo>
                  <a:lnTo>
                    <a:pt x="2562" y="360"/>
                  </a:lnTo>
                  <a:lnTo>
                    <a:pt x="2502" y="265"/>
                  </a:lnTo>
                  <a:lnTo>
                    <a:pt x="2477" y="174"/>
                  </a:lnTo>
                  <a:lnTo>
                    <a:pt x="2460" y="97"/>
                  </a:lnTo>
                  <a:lnTo>
                    <a:pt x="2399" y="0"/>
                  </a:lnTo>
                  <a:lnTo>
                    <a:pt x="2304" y="96"/>
                  </a:lnTo>
                  <a:lnTo>
                    <a:pt x="2208" y="0"/>
                  </a:lnTo>
                  <a:lnTo>
                    <a:pt x="2111" y="96"/>
                  </a:lnTo>
                  <a:lnTo>
                    <a:pt x="2016" y="0"/>
                  </a:lnTo>
                  <a:lnTo>
                    <a:pt x="1919" y="96"/>
                  </a:lnTo>
                  <a:lnTo>
                    <a:pt x="1823" y="0"/>
                  </a:lnTo>
                  <a:lnTo>
                    <a:pt x="1728" y="96"/>
                  </a:lnTo>
                  <a:lnTo>
                    <a:pt x="1631" y="0"/>
                  </a:lnTo>
                  <a:lnTo>
                    <a:pt x="1536" y="96"/>
                  </a:lnTo>
                  <a:lnTo>
                    <a:pt x="1440" y="0"/>
                  </a:lnTo>
                  <a:lnTo>
                    <a:pt x="1343" y="96"/>
                  </a:lnTo>
                  <a:lnTo>
                    <a:pt x="1233" y="0"/>
                  </a:lnTo>
                  <a:lnTo>
                    <a:pt x="1151" y="96"/>
                  </a:lnTo>
                  <a:lnTo>
                    <a:pt x="1055" y="0"/>
                  </a:lnTo>
                  <a:lnTo>
                    <a:pt x="960" y="96"/>
                  </a:lnTo>
                  <a:lnTo>
                    <a:pt x="863" y="0"/>
                  </a:lnTo>
                  <a:lnTo>
                    <a:pt x="768" y="96"/>
                  </a:lnTo>
                  <a:lnTo>
                    <a:pt x="672" y="0"/>
                  </a:lnTo>
                  <a:lnTo>
                    <a:pt x="575" y="96"/>
                  </a:lnTo>
                  <a:lnTo>
                    <a:pt x="480" y="0"/>
                  </a:lnTo>
                  <a:lnTo>
                    <a:pt x="383" y="96"/>
                  </a:lnTo>
                  <a:lnTo>
                    <a:pt x="287" y="0"/>
                  </a:lnTo>
                  <a:lnTo>
                    <a:pt x="197" y="96"/>
                  </a:lnTo>
                  <a:lnTo>
                    <a:pt x="95" y="0"/>
                  </a:lnTo>
                  <a:lnTo>
                    <a:pt x="0" y="96"/>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0DC03-5D7F-4955-85D6-907901ACA644}"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9966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9966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9966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88" name=""/>
          <p:cNvSpPr txBox="1"/>
          <p:nvPr/>
        </p:nvSpPr>
        <p:spPr>
          <a:xfrm>
            <a:off x="1752480" y="1143000"/>
            <a:ext cx="54864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The flushing jokes</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447920" y="380880"/>
            <a:ext cx="6057720" cy="522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99" name=""/>
          <p:cNvGraphicFramePr/>
          <p:nvPr/>
        </p:nvGraphicFramePr>
        <p:xfrm>
          <a:off x="228600" y="380880"/>
          <a:ext cx="8381880" cy="4935600"/>
        </p:xfrm>
        <a:graphic>
          <a:graphicData uri="http://schemas.openxmlformats.org/drawingml/2006/table">
            <a:tbl>
              <a:tblPr/>
              <a:tblGrid>
                <a:gridCol w="8381880"/>
              </a:tblGrid>
              <a:tr h="4935600">
                <a:tc>
                  <a:txBody>
                    <a:bodyPr lIns="90000" rIns="90000" tIns="46800" bIns="46800" anchor="t">
                      <a:noAutofit/>
                    </a:bodyPr>
                    <a:p>
                      <a:pPr>
                        <a:lnSpc>
                          <a:spcPct val="100000"/>
                        </a:lnSpc>
                        <a:tabLst>
                          <a:tab algn="l" pos="0"/>
                          <a:tab algn="l" pos="4514760"/>
                          <a:tab algn="l" pos="4572000"/>
                          <a:tab algn="l" pos="5486400"/>
                          <a:tab algn="l" pos="6400800"/>
                          <a:tab algn="l" pos="7315200"/>
                          <a:tab algn="l" pos="8229600"/>
                          <a:tab algn="l" pos="9144000"/>
                          <a:tab algn="l" pos="10058400"/>
                        </a:tabLst>
                      </a:pPr>
                      <a:r>
                        <a:rPr b="1" lang="en-CA" sz="1200" spc="-1" strike="noStrike">
                          <a:solidFill>
                            <a:srgbClr val="996600"/>
                          </a:solidFill>
                          <a:latin typeface="Arial"/>
                          <a:ea typeface="Arial"/>
                        </a:rPr>
                        <a:t>Tree Norwegians</a:t>
                      </a:r>
                      <a:endParaRPr b="0" lang="en-US" sz="1200" spc="-1" strike="noStrike">
                        <a:solidFill>
                          <a:srgbClr val="000000"/>
                        </a:solidFill>
                        <a:latin typeface="Arial"/>
                      </a:endParaRPr>
                    </a:p>
                    <a:p>
                      <a:pPr>
                        <a:lnSpc>
                          <a:spcPct val="100000"/>
                        </a:lnSpc>
                        <a:tabLst>
                          <a:tab algn="l" pos="0"/>
                          <a:tab algn="l" pos="4514760"/>
                          <a:tab algn="l" pos="4572000"/>
                          <a:tab algn="l" pos="5486400"/>
                          <a:tab algn="l" pos="6400800"/>
                          <a:tab algn="l" pos="7315200"/>
                          <a:tab algn="l" pos="8229600"/>
                          <a:tab algn="l" pos="9144000"/>
                          <a:tab algn="l" pos="10058400"/>
                        </a:tabLst>
                      </a:pPr>
                      <a:r>
                        <a:rPr b="1" lang="en-CA" sz="1200" spc="-1" strike="noStrike">
                          <a:solidFill>
                            <a:srgbClr val="996600"/>
                          </a:solidFill>
                          <a:latin typeface="Arial"/>
                          <a:ea typeface="Arial"/>
                        </a:rPr>
                        <a:t>Ole, Lars and Sven had been going to the Sons of Norway hall meetings as long as there had been a hall. And every month, wouldn't ya know it, they never won a prize at the monthly drawing.</a:t>
                      </a:r>
                      <a:br>
                        <a:rPr sz="1200"/>
                      </a:br>
                      <a:r>
                        <a:rPr b="1" lang="en-CA" sz="1200" spc="-1" strike="noStrike">
                          <a:solidFill>
                            <a:srgbClr val="996600"/>
                          </a:solidFill>
                          <a:latin typeface="Arial"/>
                          <a:ea typeface="Arial"/>
                        </a:rPr>
                        <a:t>That is, until the last meeting...</a:t>
                      </a:r>
                      <a:br>
                        <a:rPr sz="1200"/>
                      </a:br>
                      <a:br>
                        <a:rPr sz="1200"/>
                      </a:br>
                      <a:r>
                        <a:rPr b="1" lang="en-CA" sz="1200" spc="-1" strike="noStrike">
                          <a:solidFill>
                            <a:srgbClr val="996600"/>
                          </a:solidFill>
                          <a:latin typeface="Arial"/>
                          <a:ea typeface="Arial"/>
                        </a:rPr>
                        <a:t>Sven was the first one of the three to have his name drawn. He won two pounds of spaghetti sauce, four boxes of noodles and three pounds of Swedish meatballs.</a:t>
                      </a:r>
                      <a:br>
                        <a:rPr sz="1200"/>
                      </a:br>
                      <a:br>
                        <a:rPr sz="1200"/>
                      </a:br>
                      <a:r>
                        <a:rPr b="1" lang="en-CA" sz="1200" spc="-1" strike="noStrike">
                          <a:solidFill>
                            <a:srgbClr val="996600"/>
                          </a:solidFill>
                          <a:latin typeface="Arial"/>
                          <a:ea typeface="Arial"/>
                        </a:rPr>
                        <a:t>Ole had his name drawn next. He got himself round trip tickets to Duluth, MN., 2 nights' stay at</a:t>
                      </a:r>
                      <a:br>
                        <a:rPr sz="1200"/>
                      </a:br>
                      <a:r>
                        <a:rPr b="1" lang="en-CA" sz="1200" spc="-1" strike="noStrike">
                          <a:solidFill>
                            <a:srgbClr val="996600"/>
                          </a:solidFill>
                          <a:latin typeface="Arial"/>
                          <a:ea typeface="Arial"/>
                        </a:rPr>
                        <a:t>the Dew Drop Inn, and a pair of tickets to see the Inger triplets Polka Ensemble. Ole thought that he had died and gone to heaven. </a:t>
                      </a:r>
                      <a:br>
                        <a:rPr sz="1200"/>
                      </a:br>
                      <a:br>
                        <a:rPr sz="1200"/>
                      </a:br>
                      <a:r>
                        <a:rPr b="1" lang="en-CA" sz="1200" spc="-1" strike="noStrike">
                          <a:solidFill>
                            <a:srgbClr val="996600"/>
                          </a:solidFill>
                          <a:latin typeface="Arial"/>
                          <a:ea typeface="Arial"/>
                        </a:rPr>
                        <a:t>Lars was the last one to have his name drawn. He won a toilet brush.</a:t>
                      </a:r>
                      <a:br>
                        <a:rPr sz="1200"/>
                      </a:br>
                      <a:br>
                        <a:rPr sz="1200"/>
                      </a:br>
                      <a:r>
                        <a:rPr b="1" lang="en-CA" sz="1200" spc="-1" strike="noStrike">
                          <a:solidFill>
                            <a:srgbClr val="996600"/>
                          </a:solidFill>
                          <a:latin typeface="Arial"/>
                          <a:ea typeface="Arial"/>
                        </a:rPr>
                        <a:t>At the next monthly meeting, they sat down together to check out how they had fared for the past</a:t>
                      </a:r>
                      <a:br>
                        <a:rPr sz="1200"/>
                      </a:br>
                      <a:r>
                        <a:rPr b="1" lang="en-CA" sz="1200" spc="-1" strike="noStrike">
                          <a:solidFill>
                            <a:srgbClr val="996600"/>
                          </a:solidFill>
                          <a:latin typeface="Arial"/>
                          <a:ea typeface="Arial"/>
                        </a:rPr>
                        <a:t>month.</a:t>
                      </a:r>
                      <a:br>
                        <a:rPr sz="1200"/>
                      </a:br>
                      <a:br>
                        <a:rPr sz="1200"/>
                      </a:br>
                      <a:r>
                        <a:rPr b="1" lang="en-CA" sz="1200" spc="-1" strike="noStrike">
                          <a:solidFill>
                            <a:srgbClr val="996600"/>
                          </a:solidFill>
                          <a:latin typeface="Arial"/>
                          <a:ea typeface="Arial"/>
                        </a:rPr>
                        <a:t>Sven said, "Uff da, I had dat pasghetti for tree days. It was so good, and Helga didn't have to buy food for dem dere tree days."</a:t>
                      </a:r>
                      <a:br>
                        <a:rPr sz="1200"/>
                      </a:br>
                      <a:br>
                        <a:rPr sz="1200"/>
                      </a:br>
                      <a:r>
                        <a:rPr b="1" lang="en-CA" sz="1200" spc="-1" strike="noStrike">
                          <a:solidFill>
                            <a:srgbClr val="996600"/>
                          </a:solidFill>
                          <a:latin typeface="Arial"/>
                          <a:ea typeface="Arial"/>
                        </a:rPr>
                        <a:t>Ole said, "Lena was so happy vhen I brought home dem tickets. The trip up to Duloot was nice, and we got to ride da Greyhound, and you know, they got a built-in outhouse on dat dere bus. And the Inger triplets, if I didn't know better, I would swear dey vere sisters."</a:t>
                      </a:r>
                      <a:br>
                        <a:rPr sz="1200"/>
                      </a:br>
                      <a:br>
                        <a:rPr sz="1200"/>
                      </a:br>
                      <a:r>
                        <a:rPr b="1" lang="en-CA" sz="1200" spc="-1" strike="noStrike">
                          <a:solidFill>
                            <a:srgbClr val="996600"/>
                          </a:solidFill>
                          <a:latin typeface="Arial"/>
                          <a:ea typeface="Arial"/>
                        </a:rPr>
                        <a:t>Then Ole turned to Lars, and asked him how his prize worked out. Lars looked at them both and said, "Dat dere toilet brush is nice, but I tink I'll go back to using paper."</a:t>
                      </a:r>
                      <a:r>
                        <a:rPr b="0" lang="en-CA" sz="1200" spc="-1" strike="noStrike">
                          <a:solidFill>
                            <a:srgbClr val="996600"/>
                          </a:solidFill>
                          <a:latin typeface="Times New Roman"/>
                        </a:rPr>
                        <a:t> </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00" name=""/>
          <p:cNvGraphicFramePr/>
          <p:nvPr/>
        </p:nvGraphicFramePr>
        <p:xfrm>
          <a:off x="304920" y="1066680"/>
          <a:ext cx="8610480" cy="3970080"/>
        </p:xfrm>
        <a:graphic>
          <a:graphicData uri="http://schemas.openxmlformats.org/drawingml/2006/table">
            <a:tbl>
              <a:tblPr/>
              <a:tblGrid>
                <a:gridCol w="8610480"/>
              </a:tblGrid>
              <a:tr h="3970080">
                <a:tc>
                  <a:txBody>
                    <a:bodyPr lIns="90000" rIns="90000" tIns="46800" bIns="46800" anchor="t">
                      <a:noAutofit/>
                    </a:bodyPr>
                    <a:p>
                      <a:pPr>
                        <a:lnSpc>
                          <a:spcPct val="100000"/>
                        </a:lnSpc>
                        <a:tabLst>
                          <a:tab algn="l" pos="0"/>
                          <a:tab algn="l" pos="4514760"/>
                          <a:tab algn="l" pos="4572000"/>
                          <a:tab algn="l" pos="5486400"/>
                          <a:tab algn="l" pos="6400800"/>
                          <a:tab algn="l" pos="7315200"/>
                          <a:tab algn="l" pos="8229600"/>
                          <a:tab algn="l" pos="9144000"/>
                          <a:tab algn="l" pos="10058400"/>
                        </a:tabLst>
                      </a:pPr>
                      <a:r>
                        <a:rPr b="1" lang="en-US" sz="1600" spc="-1" strike="noStrike">
                          <a:solidFill>
                            <a:srgbClr val="996600"/>
                          </a:solidFill>
                          <a:latin typeface="Arial"/>
                          <a:ea typeface="Arial"/>
                        </a:rPr>
                        <a:t>A group of second, third, fourth graders went on a field trip to Churchill Downs to learn about thoroughbred horses and the supporting industry. When it was time to take the children to the rest rooms, it was decided that the girls would go with one teacher and the boys with the other.</a:t>
                      </a:r>
                      <a:br>
                        <a:rPr sz="1600"/>
                      </a:br>
                      <a:br>
                        <a:rPr sz="1600"/>
                      </a:br>
                      <a:r>
                        <a:rPr b="1" lang="en-US" sz="1600" spc="-1" strike="noStrike">
                          <a:solidFill>
                            <a:srgbClr val="996600"/>
                          </a:solidFill>
                          <a:latin typeface="Arial"/>
                          <a:ea typeface="Arial"/>
                        </a:rPr>
                        <a:t>However, both teachers were women. The boys' escort was waiting outside the men's room</a:t>
                      </a:r>
                      <a:br>
                        <a:rPr sz="1600"/>
                      </a:br>
                      <a:r>
                        <a:rPr b="1" lang="en-US" sz="1600" spc="-1" strike="noStrike">
                          <a:solidFill>
                            <a:srgbClr val="996600"/>
                          </a:solidFill>
                          <a:latin typeface="Arial"/>
                          <a:ea typeface="Arial"/>
                        </a:rPr>
                        <a:t>when one of the boys came out and told her that none of them could reach the urinal. Having no choice, she sheepishly went inside and began hoisting the little boys up by the underarms, one by one. As she lifted one, she couldn't help but notice that he was quite maturely developed. Trying not to stare, she asked, "Are you in the fourth?" "No, ma'am," he replied. "I'm in the seventh, riding Silver Arrow. But I really appreciate the lift."</a:t>
                      </a:r>
                      <a:r>
                        <a:rPr b="0" lang="en-US" sz="1600" spc="-1" strike="noStrike">
                          <a:solidFill>
                            <a:srgbClr val="996600"/>
                          </a:solidFill>
                          <a:latin typeface="Times New Roman"/>
                        </a:rPr>
                        <a:t> </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685800" y="1219320"/>
            <a:ext cx="7753320" cy="305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133720" y="762120"/>
            <a:ext cx="5186160" cy="4519440"/>
          </a:xfrm>
          <a:prstGeom prst="rect">
            <a:avLst/>
          </a:prstGeom>
          <a:ln w="0">
            <a:noFill/>
          </a:ln>
        </p:spPr>
      </p:pic>
      <p:sp>
        <p:nvSpPr>
          <p:cNvPr id="103" name=""/>
          <p:cNvSpPr txBox="1"/>
          <p:nvPr/>
        </p:nvSpPr>
        <p:spPr>
          <a:xfrm>
            <a:off x="2050920" y="6093000"/>
            <a:ext cx="5388120" cy="4284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2"/>
                  <a:srcRect/>
                  <a:stretch/>
                </a:blipFill>
                <a:latin typeface="Mangal"/>
              </a:rPr>
              <a:t>more at   www.free-powerpoints.goedbegin.be</a:t>
            </a:r>
            <a:endParaRPr b="0" lang="en-US" sz="2800" spc="1" strike="noStrike">
              <a:ln w="0">
                <a:noFill/>
              </a:ln>
              <a:blipFill rotWithShape="0">
                <a:blip r:embed="rId3"/>
                <a:srcRect/>
                <a:stretch/>
              </a:blipFill>
              <a:latin typeface="Mangal"/>
              <a:ea typeface="Mang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103"/>
                                        </p:tgtEl>
                                        <p:attrNameLst>
                                          <p:attrName>style.visibility</p:attrName>
                                        </p:attrNameLst>
                                      </p:cBhvr>
                                      <p:to>
                                        <p:strVal val="visible"/>
                                      </p:to>
                                    </p:set>
                                    <p:animEffect filter="fade" transition="in">
                                      <p:cBhvr additive="repl">
                                        <p:cTn id="7" dur="1000"/>
                                        <p:tgtEl>
                                          <p:spTgt spid="103"/>
                                        </p:tgtEl>
                                      </p:cBhvr>
                                    </p:animEffect>
                                    <p:anim calcmode="lin" valueType="num">
                                      <p:cBhvr additive="repl">
                                        <p:cTn id="8" dur="1000" fill="hold"/>
                                        <p:tgtEl>
                                          <p:spTgt spid="103"/>
                                        </p:tgtEl>
                                        <p:attrNameLst>
                                          <p:attrName>ppt_x</p:attrName>
                                        </p:attrNameLst>
                                      </p:cBhvr>
                                      <p:tavLst>
                                        <p:tav tm="0">
                                          <p:val>
                                            <p:strVal val="#ppt_x"/>
                                          </p:val>
                                        </p:tav>
                                        <p:tav tm="100000">
                                          <p:val>
                                            <p:strVal val="#ppt_x"/>
                                          </p:val>
                                        </p:tav>
                                      </p:tavLst>
                                    </p:anim>
                                    <p:anim calcmode="lin" valueType="num">
                                      <p:cBhvr additive="repl">
                                        <p:cTn id="9" dur="1000" fill="hold"/>
                                        <p:tgtEl>
                                          <p:spTgt spid="103"/>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autoRev="1" nodeType="afterEffect" fill="hold" presetClass="emph" presetID="6" repeatCount="indefinite">
                                  <p:stCondLst>
                                    <p:cond delay="0"/>
                                  </p:stCondLst>
                                  <p:childTnLst>
                                    <p:animScale>
                                      <p:cBhvr>
                                        <p:cTn id="12" dur="500" fill="hold"/>
                                        <p:tgtEl>
                                          <p:spTgt spid="10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89" name=""/>
          <p:cNvGraphicFramePr/>
          <p:nvPr/>
        </p:nvGraphicFramePr>
        <p:xfrm>
          <a:off x="838080" y="1676520"/>
          <a:ext cx="7696440" cy="3011400"/>
        </p:xfrm>
        <a:graphic>
          <a:graphicData uri="http://schemas.openxmlformats.org/drawingml/2006/table">
            <a:tbl>
              <a:tblPr/>
              <a:tblGrid>
                <a:gridCol w="7696440"/>
              </a:tblGrid>
              <a:tr h="3020040">
                <a:tc>
                  <a:txBody>
                    <a:bodyPr lIns="90000" rIns="90000" tIns="46800" bIns="46800" anchor="t">
                      <a:noAutofit/>
                    </a:bodyPr>
                    <a:p>
                      <a:pPr algn="ctr">
                        <a:lnSpc>
                          <a:spcPct val="100000"/>
                        </a:lnSpc>
                        <a:tabLst>
                          <a:tab algn="l" pos="0"/>
                          <a:tab algn="l" pos="451476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451476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ea typeface="Arial"/>
                        </a:rPr>
                        <a:t>A Lovely Thing</a:t>
                      </a:r>
                      <a:endParaRPr b="0" lang="en-US" sz="2400" spc="-1" strike="noStrike">
                        <a:solidFill>
                          <a:srgbClr val="000000"/>
                        </a:solidFill>
                        <a:latin typeface="Arial"/>
                      </a:endParaRPr>
                    </a:p>
                    <a:p>
                      <a:pPr algn="ctr">
                        <a:lnSpc>
                          <a:spcPct val="100000"/>
                        </a:lnSpc>
                        <a:tabLst>
                          <a:tab algn="l" pos="0"/>
                          <a:tab algn="l" pos="451476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451476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ea typeface="Arial"/>
                        </a:rPr>
                        <a:t>A fart it is a lovely thing...</a:t>
                      </a:r>
                      <a:br>
                        <a:rPr sz="2400"/>
                      </a:br>
                      <a:r>
                        <a:rPr b="1" lang="en-US" sz="2400" spc="-1" strike="noStrike">
                          <a:solidFill>
                            <a:srgbClr val="996600"/>
                          </a:solidFill>
                          <a:latin typeface="Arial"/>
                          <a:ea typeface="Arial"/>
                        </a:rPr>
                        <a:t>It gives the body ease,</a:t>
                      </a:r>
                      <a:br>
                        <a:rPr sz="2400"/>
                      </a:br>
                      <a:r>
                        <a:rPr b="1" lang="en-US" sz="2400" spc="-1" strike="noStrike">
                          <a:solidFill>
                            <a:srgbClr val="996600"/>
                          </a:solidFill>
                          <a:latin typeface="Arial"/>
                          <a:ea typeface="Arial"/>
                        </a:rPr>
                        <a:t>It airs the bed,</a:t>
                      </a:r>
                      <a:br>
                        <a:rPr sz="2400"/>
                      </a:br>
                      <a:r>
                        <a:rPr b="1" lang="en-US" sz="2400" spc="-1" strike="noStrike">
                          <a:solidFill>
                            <a:srgbClr val="996600"/>
                          </a:solidFill>
                          <a:latin typeface="Arial"/>
                          <a:ea typeface="Arial"/>
                        </a:rPr>
                        <a:t>Warms the sheets,</a:t>
                      </a:r>
                      <a:br>
                        <a:rPr sz="2400"/>
                      </a:br>
                      <a:r>
                        <a:rPr b="1" lang="en-US" sz="2400" spc="-1" strike="noStrike">
                          <a:solidFill>
                            <a:srgbClr val="996600"/>
                          </a:solidFill>
                          <a:latin typeface="Arial"/>
                          <a:ea typeface="Arial"/>
                        </a:rPr>
                        <a:t>And stifles all the fleas.</a:t>
                      </a:r>
                      <a:r>
                        <a:rPr b="0" lang="en-US" sz="2400" spc="-1" strike="noStrike">
                          <a:solidFill>
                            <a:srgbClr val="996600"/>
                          </a:solidFill>
                          <a:latin typeface="Times New Roman"/>
                        </a:rPr>
                        <a:t> </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90" name=""/>
          <p:cNvGraphicFramePr/>
          <p:nvPr/>
        </p:nvGraphicFramePr>
        <p:xfrm>
          <a:off x="0" y="1523880"/>
          <a:ext cx="9144000" cy="3536640"/>
        </p:xfrm>
        <a:graphic>
          <a:graphicData uri="http://schemas.openxmlformats.org/drawingml/2006/table">
            <a:tbl>
              <a:tblPr/>
              <a:tblGrid>
                <a:gridCol w="9144000"/>
              </a:tblGrid>
              <a:tr h="3536640">
                <a:tc>
                  <a:txBody>
                    <a:bodyPr lIns="90000" rIns="90000" tIns="46800" bIns="46800" anchor="t">
                      <a:noAutofit/>
                    </a:bodyPr>
                    <a:p>
                      <a:pPr>
                        <a:lnSpc>
                          <a:spcPct val="100000"/>
                        </a:lnSpc>
                        <a:tabLst>
                          <a:tab algn="l" pos="0"/>
                          <a:tab algn="l" pos="4514760"/>
                          <a:tab algn="l" pos="4572000"/>
                          <a:tab algn="l" pos="5486400"/>
                          <a:tab algn="l" pos="6400800"/>
                          <a:tab algn="l" pos="7315200"/>
                          <a:tab algn="l" pos="8229600"/>
                          <a:tab algn="l" pos="9144000"/>
                          <a:tab algn="l" pos="10058400"/>
                        </a:tabLst>
                      </a:pPr>
                      <a:r>
                        <a:rPr b="1" lang="en-CA" sz="1800" spc="-1" strike="noStrike">
                          <a:solidFill>
                            <a:srgbClr val="996600"/>
                          </a:solidFill>
                          <a:latin typeface="Arial"/>
                          <a:ea typeface="Arial"/>
                        </a:rPr>
                        <a:t>A drunken man staggered in to a Catholic Church and sat down in a confession box, saying nothing. The bewildered priest coughed to attract his attention, but still the man said nothing. The priest then knocked on the wall three times in a final attempt to get the man to speak. </a:t>
                      </a:r>
                      <a:br>
                        <a:rPr sz="1800"/>
                      </a:br>
                      <a:br>
                        <a:rPr sz="1800"/>
                      </a:br>
                      <a:r>
                        <a:rPr b="1" lang="en-CA" sz="1800" spc="-1" strike="noStrike">
                          <a:solidFill>
                            <a:srgbClr val="996600"/>
                          </a:solidFill>
                          <a:latin typeface="Arial"/>
                          <a:ea typeface="Arial"/>
                        </a:rPr>
                        <a:t>Finally, the drunk replied, "No use knockin', mate, there's no paper in this one either."</a:t>
                      </a:r>
                      <a:r>
                        <a:rPr b="0" lang="en-CA" sz="1800" spc="-1" strike="noStrike">
                          <a:solidFill>
                            <a:srgbClr val="996600"/>
                          </a:solidFill>
                          <a:latin typeface="Times New Roman"/>
                        </a:rPr>
                        <a:t> </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752480" y="1066680"/>
            <a:ext cx="5900760" cy="393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057400" y="533520"/>
            <a:ext cx="5529240" cy="504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743200" y="457200"/>
            <a:ext cx="3875040" cy="5010120"/>
          </a:xfrm>
          <a:prstGeom prst="rect">
            <a:avLst/>
          </a:prstGeom>
          <a:ln w="0">
            <a:noFill/>
          </a:ln>
        </p:spPr>
      </p:pic>
      <p:sp>
        <p:nvSpPr>
          <p:cNvPr id="94" name=""/>
          <p:cNvSpPr txBox="1"/>
          <p:nvPr/>
        </p:nvSpPr>
        <p:spPr>
          <a:xfrm rot="18011400">
            <a:off x="-371520" y="2199600"/>
            <a:ext cx="367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Potty in China</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371600" y="533520"/>
            <a:ext cx="6448320" cy="4978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96" name=""/>
          <p:cNvGraphicFramePr/>
          <p:nvPr/>
        </p:nvGraphicFramePr>
        <p:xfrm>
          <a:off x="0" y="533520"/>
          <a:ext cx="9144000" cy="4357440"/>
        </p:xfrm>
        <a:graphic>
          <a:graphicData uri="http://schemas.openxmlformats.org/drawingml/2006/table">
            <a:tbl>
              <a:tblPr/>
              <a:tblGrid>
                <a:gridCol w="9144000"/>
              </a:tblGrid>
              <a:tr h="4362840">
                <a:tc>
                  <a:txBody>
                    <a:bodyPr lIns="90000" rIns="90000" tIns="46800" bIns="46800" anchor="t">
                      <a:noAutofit/>
                    </a:bodyPr>
                    <a:p>
                      <a:pPr>
                        <a:lnSpc>
                          <a:spcPct val="100000"/>
                        </a:lnSpc>
                        <a:tabLst>
                          <a:tab algn="l" pos="0"/>
                          <a:tab algn="l" pos="451476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ea typeface="Arial"/>
                        </a:rPr>
                        <a:t>A man walked into a supermarket with his zipper down. A lady cashier walked up to him and said, "Your barracks door is open." Since he wasn't familiar with that phrase, he went on his way, looking a bit puzzled.</a:t>
                      </a:r>
                      <a:br>
                        <a:rPr sz="2000"/>
                      </a:br>
                      <a:br>
                        <a:rPr sz="2000"/>
                      </a:br>
                      <a:r>
                        <a:rPr b="1" lang="en-US" sz="2000" spc="-1" strike="noStrike">
                          <a:solidFill>
                            <a:srgbClr val="996600"/>
                          </a:solidFill>
                          <a:latin typeface="Arial"/>
                          <a:ea typeface="Arial"/>
                        </a:rPr>
                        <a:t>When he was about done shopping, a man came up and said, "Your fly is open." He zipped up and finished his shopping. He then intentionally got in the line to check out where the lady was who told him about his "barracks door." He was planning to have a little fun with her.</a:t>
                      </a:r>
                      <a:br>
                        <a:rPr sz="2000"/>
                      </a:br>
                      <a:br>
                        <a:rPr sz="2000"/>
                      </a:br>
                      <a:r>
                        <a:rPr b="1" lang="en-US" sz="2000" spc="-1" strike="noStrike">
                          <a:solidFill>
                            <a:srgbClr val="996600"/>
                          </a:solidFill>
                          <a:latin typeface="Arial"/>
                          <a:ea typeface="Arial"/>
                        </a:rPr>
                        <a:t>When he reached her counter he said, "When you saw my barracks door open did you see a soldier standing in there at attention?" </a:t>
                      </a:r>
                      <a:br>
                        <a:rPr sz="2000"/>
                      </a:br>
                      <a:br>
                        <a:rPr sz="2000"/>
                      </a:br>
                      <a:r>
                        <a:rPr b="1" lang="en-US" sz="2000" spc="-1" strike="noStrike">
                          <a:solidFill>
                            <a:srgbClr val="996600"/>
                          </a:solidFill>
                          <a:latin typeface="Arial"/>
                          <a:ea typeface="Arial"/>
                        </a:rPr>
                        <a:t>The lady thought for a moment and said, "No, no. I didn't. All I saw was a disabled veteran sitting on two duffel bags!"</a:t>
                      </a:r>
                      <a:r>
                        <a:rPr b="0" lang="en-US" sz="2000" spc="-1" strike="noStrike">
                          <a:solidFill>
                            <a:srgbClr val="996600"/>
                          </a:solidFill>
                          <a:latin typeface="Times New Roman"/>
                        </a:rPr>
                        <a:t> </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90720" y="457200"/>
            <a:ext cx="7238880" cy="49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14:21:28Z</dcterms:created>
  <dc:creator>Etienne Smeets</dc:creator>
  <dc:description/>
  <dc:language>en-US</dc:language>
  <cp:lastModifiedBy>Smets</cp:lastModifiedBy>
  <dcterms:modified xsi:type="dcterms:W3CDTF">2008-09-09T19:23:14Z</dcterms:modified>
  <cp:revision>3</cp:revision>
  <dc:subject/>
  <dc:title>Dia 1</dc:title>
</cp:coreProperties>
</file>