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16CC-6108-41E8-8236-272B994F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FBB-3A6D-45C0-96C7-35E1699D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D62-18AD-42CF-B472-2CD27EC9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DC3-D20D-4D93-BB01-0E0108A5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EEF-2DF8-432C-9CDD-1C1A5089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C4B0-BA28-4D80-9CCA-93387815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407-09B9-45E5-AD60-2E58EDA4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FE6-E562-4BD0-A783-2F7D7A20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F69-0383-417F-B5F6-5F27E741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616-3302-438D-A58C-A800D9B3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3EA-E168-48FD-9BF4-0BC27E27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82A-DC9F-4505-977F-6EAC03A5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B914F-919B-4791-BF8F-F076393760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9BD21-CEBF-4695-A332-EAC07120D92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5:53:20Z</dcterms:created>
  <dc:creator>최봉수</dc:creator>
  <dc:description/>
  <dc:language>en-US</dc:language>
  <cp:lastModifiedBy>맛있다 군만두</cp:lastModifiedBy>
  <dcterms:modified xsi:type="dcterms:W3CDTF">2024-10-01T02:55:20Z</dcterms:modified>
  <cp:revision>3</cp:revision>
  <dc:subject/>
  <dc:title>슬라이드 1</dc:title>
</cp:coreProperties>
</file>