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6C4-2743-4622-8373-2E890D45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364-43D7-4300-95F3-77D76F7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15F-0B1D-4B8F-8E16-3320ABB7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8DD-71E3-49C2-89FD-B7B74D1F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D0E-484D-41FA-AEBB-5D8671D9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0D0-6D10-49AF-B586-D4097F50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DAE-4B34-4F08-9207-B97DB80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585-262E-4487-975D-010D557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EC7-FC6F-4915-B341-1F6DCF8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9CE-9D49-40B1-BE76-87223D3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2D6-E92F-4048-BADE-73D8DD8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F29-EDEA-451F-A6ED-AD3CBC3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F74EC-7A9E-49B1-A39E-ABB5007C52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BD8CA-8112-4F5E-8244-3041CFF7B16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53:20Z</dcterms:created>
  <dc:creator>최봉수</dc:creator>
  <dc:description/>
  <dc:language>en-US</dc:language>
  <cp:lastModifiedBy>맛있다 군만두</cp:lastModifiedBy>
  <dcterms:modified xsi:type="dcterms:W3CDTF">2024-10-01T02:55:20Z</dcterms:modified>
  <cp:revision>3</cp:revision>
  <dc:subject/>
  <dc:title>슬라이드 1</dc:title>
</cp:coreProperties>
</file>