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B6F8-05CE-4722-AA46-47D7DCCF7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6E47-51A6-49E4-8378-5ACEE7E9C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BDDB-92E2-4A18-888C-5566FE0F0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C301-0AA0-4205-978B-84219F80A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C146-9E30-4EA2-8679-71D734B59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585C-BD39-41B5-8730-419DF3210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51C1-F653-433C-AB27-D16320406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84BA-E25B-4426-AC5D-33B2804AB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2B7A-8D8B-43DB-9E6A-910FEC68C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AD47-14B0-43BB-A0A5-F9B0EC3C2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7B03-5FC8-47E7-98DD-59465795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C64E-6793-4459-95CF-B4B021EF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C3DAE-B9A8-497B-9075-F966918ECE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image" Target="../media/image4.jpeg"/><Relationship Id="rId4" Type="http://schemas.openxmlformats.org/officeDocument/2006/relationships/slide" Target="slide1.xml"/><Relationship Id="rId5" Type="http://schemas.openxmlformats.org/officeDocument/2006/relationships/image" Target="../media/image4.jpeg"/><Relationship Id="rId6" Type="http://schemas.openxmlformats.org/officeDocument/2006/relationships/hyperlink" Target="file:///../&#1601;&#1607;&#1585;&#1587;%20&#1575;&#1604;&#1578;&#1585;&#1575;&#1606;&#1610;&#1605;.pps" TargetMode="External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2500" t="3333" r="3333" b="250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2280" y="1143000"/>
            <a:ext cx="9144000" cy="11898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يسوع فادي حياتي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2057400"/>
            <a:ext cx="9144000" cy="22870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يسوع يا من فيك نجاتي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139920"/>
            <a:ext cx="9144000" cy="22870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تجذبني من عمق الخطايا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054320"/>
            <a:ext cx="9144000" cy="11898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ترفعني عالياً فأغني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1680" y="1488960"/>
            <a:ext cx="9099720" cy="11898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7200" spc="-1" strike="noStrike">
                <a:solidFill>
                  <a:srgbClr val="f6fb23"/>
                </a:solidFill>
                <a:latin typeface="Times New Roman"/>
                <a:cs typeface="Simplified Arabic"/>
              </a:rPr>
              <a:t>أحبك أحتاج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44280" y="2316240"/>
            <a:ext cx="9264600" cy="22870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7200" spc="-1" strike="noStrike">
                <a:solidFill>
                  <a:srgbClr val="f6fb23"/>
                </a:solidFill>
                <a:latin typeface="Times New Roman"/>
                <a:cs typeface="Simplified Arabic"/>
              </a:rPr>
              <a:t>وإن ضاق بي الزمان سأغني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0200" y="3382920"/>
            <a:ext cx="8847360" cy="11898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7200" spc="-1" strike="noStrike">
                <a:solidFill>
                  <a:srgbClr val="f6fb23"/>
                </a:solidFill>
                <a:latin typeface="Times New Roman"/>
                <a:cs typeface="Simplified Arabic"/>
              </a:rPr>
              <a:t>فاديَّ أوفى صدي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4297320"/>
            <a:ext cx="8847360" cy="22870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7200" spc="-1" strike="noStrike">
                <a:solidFill>
                  <a:srgbClr val="f6fb23"/>
                </a:solidFill>
                <a:latin typeface="Times New Roman"/>
                <a:cs typeface="Simplified Arabic"/>
              </a:rPr>
              <a:t>سأعبدك ربي طول الطري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54" name="">
            <a:hlinkClick r:id="rId2" action="ppaction://hlinksldjump"/>
          </p:cNvPr>
          <p:cNvSpPr/>
          <p:nvPr/>
        </p:nvSpPr>
        <p:spPr>
          <a:xfrm>
            <a:off x="5292720" y="1413000"/>
            <a:ext cx="3816360" cy="707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أحبك أحتاج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4" action="ppaction://hlinksldjump"/>
          </p:cNvPr>
          <p:cNvSpPr/>
          <p:nvPr/>
        </p:nvSpPr>
        <p:spPr>
          <a:xfrm>
            <a:off x="5292720" y="417600"/>
            <a:ext cx="3816360" cy="707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يسوع فاد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92">
            <a:hlinkClick r:id="rId6"/>
          </p:cNvPr>
          <p:cNvSpPr/>
          <p:nvPr/>
        </p:nvSpPr>
        <p:spPr>
          <a:xfrm>
            <a:off x="900000" y="260280"/>
            <a:ext cx="2448000" cy="11912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  <a:effectLst>
            <a:outerShdw dist="28496" dir="92255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ff"/>
                </a:solidFill>
                <a:latin typeface="Arial"/>
                <a:cs typeface="Arabic Transparent"/>
              </a:rPr>
              <a:t>فهرس التراني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09:59:33Z</dcterms:created>
  <dc:creator>FOFO</dc:creator>
  <dc:description/>
  <dc:language>en-US</dc:language>
  <cp:lastModifiedBy>Sp2</cp:lastModifiedBy>
  <dcterms:modified xsi:type="dcterms:W3CDTF">2008-09-09T13:18:21Z</dcterms:modified>
  <cp:revision>8</cp:revision>
  <dc:subject/>
  <dc:title>الشريحة 1</dc:title>
</cp:coreProperties>
</file>