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808-9A70-4479-8278-062E86D1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B8B-360F-4C06-97DB-B063C9B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B09-DB4E-46D8-B681-E4C7D8C9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B75-69D6-4EB6-BE1A-05CA9797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E24-5F88-4029-B7D9-C74D063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B91-0B77-429B-B6FD-7DBFE62F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5C4-E79F-4C52-8323-EBE2C396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226-874F-4018-BD7A-34480A5E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4DD-165B-4903-A6A4-5E5AE50F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FEF-9336-4730-ABC7-0DD8ACA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D47-FA9C-4786-805E-EA0E2126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4B8-FB68-48DE-B3CF-20C7E2F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15AC-4763-41FA-8CD4-35E53BE70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hyperlink" Target="file:///../&#1601;&#1607;&#1585;&#1587;%20&#1575;&#1604;&#1578;&#1585;&#1575;&#1606;&#1610;&#1605;.pps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500" t="3333" r="3333" b="25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143000"/>
            <a:ext cx="91440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فادي حيات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057400"/>
            <a:ext cx="91440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يا من فيك نجات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39920"/>
            <a:ext cx="91440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جذبني من عمق الخطاي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54320"/>
            <a:ext cx="91440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رفعني عالياً فأغ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680" y="1488960"/>
            <a:ext cx="909972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أحبك أحتاج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4280" y="2316240"/>
            <a:ext cx="9264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وإن ضاق بي الزمان سأغ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200" y="3382920"/>
            <a:ext cx="88473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فاديَّ أوفى صدي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297320"/>
            <a:ext cx="88473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سأعبدك ربي طول الطري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أحبك أحتاج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سوع فاد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92">
            <a:hlinkClick r:id="rId6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9:59:33Z</dcterms:created>
  <dc:creator>FOFO</dc:creator>
  <dc:description/>
  <dc:language>en-US</dc:language>
  <cp:lastModifiedBy>Sp2</cp:lastModifiedBy>
  <dcterms:modified xsi:type="dcterms:W3CDTF">2008-09-09T13:18:21Z</dcterms:modified>
  <cp:revision>8</cp:revision>
  <dc:subject/>
  <dc:title>الشريحة 1</dc:title>
</cp:coreProperties>
</file>