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C5F-082F-4988-8B53-ABB1B2D9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4EC-1A6B-40F4-A5BE-599DA084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AEA-12C1-4945-8A89-A1554B34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D95-FEF9-4788-BAB4-0097F21A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4EFE-58CD-4649-89EF-0E24AE9B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9CF-4A9A-40EF-873F-815784AD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677-E068-442D-916A-88E5EE30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309-A6C5-40D5-A884-845D59BD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AB3-B37A-4B75-9BB2-38532ADD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39C0-EE20-4052-A3AA-A921CF7D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59E-F4F9-4314-AD4E-3788F255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117-BF93-44F8-B117-E29A1CD5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ABD9-AE26-4346-918C-6771E434C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ji beda proporsi  Z te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a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kultas Kedokt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as Sebelas Ma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gun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uji perbedaan dua proporsi (dari dua sampel) data hasil kenyataan di lapan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m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4038480"/>
            <a:ext cx="822960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=nilai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anyaknya kejadian kelompok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anyaknya kejadian kelompo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anyaknya sampe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anyaknya sampe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proporsi kejadian secara keseluruhan kedua kelomp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=proporsi tidak terjadinya kejadian secara keseluruhan kedua kelomp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228600" y="1143000"/>
                <a:ext cx="350532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638680" y="1447920"/>
                <a:ext cx="2274840" cy="22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m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3048120"/>
            <a:ext cx="807732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=nilai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anyaknya kejadian kelompok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anyaknya kejadian kelompok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anyaknya sampe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banyaknya sampe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533520" y="1143000"/>
                <a:ext cx="59436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tentuan aplika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si bin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kansi, nilai hasil hitung Z dibandingkan dengan nilai tabel distribusi normal. Pada uji dua sisi daerah penerimaan Ho, jika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,5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it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,5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edangkan pada uji satu sisi daerah penerimaan Ho,jika .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it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oh aplikasi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i yang sudah diimunisasi di Kecamatan Baru sebanyak 467 bayi dari total 542 bayi, sedangkan di Kecamatan Suka sebanyak 571 bayi telah diimunisasi dari total 638 bayi. Selidikilah deng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%, apakah proporsi bayi yang  telah diimunisasi kedua kecamatan tersebut sama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yelesaian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o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; tidak beda proporsi pencapaian imunisasi kedua kecama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;ada beda proporsi pencapaian imunisasi kedua kecamat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signifkansi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mus statistik pengu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609480" y="1676520"/>
                <a:ext cx="304812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838080" y="4343400"/>
                <a:ext cx="2362320" cy="23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ung rumus statistik penguj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467 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571 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2 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638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=1 – p = 1 – 0,8797 = 0,12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838080" y="2590920"/>
                <a:ext cx="2286000" cy="26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67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8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79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ung rumus statistik penguj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5"/>
              <p:cNvSpPr txBox="1"/>
              <p:nvPr/>
            </p:nvSpPr>
            <p:spPr>
              <a:xfrm>
                <a:off x="762120" y="1523880"/>
                <a:ext cx="5867280" cy="468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q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6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54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7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38</m:t>
                                </m:r>
                              </m:den>
                            </m:f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79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0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4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638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7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ung rumus statistik penguj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692280" y="1871640"/>
                <a:ext cx="7537320" cy="42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+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+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n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67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54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7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38</m:t>
                                </m:r>
                              </m:den>
                            </m:f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467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7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42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638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467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571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542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638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4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638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7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i beda proporsi </a:t>
            </a:r>
            <a:r>
              <a:rPr b="0" lang="id-ID" sz="4400" spc="-1" strike="noStrike">
                <a:solidFill>
                  <a:srgbClr val="000000"/>
                </a:solidFill>
                <a:latin typeface="Arial"/>
              </a:rPr>
              <a:t>sat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amp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 test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f/db/d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alam uji  Z tidak diperlukan nilai df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lai t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ilai tabel pada tabel Z kurva normal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i dua sis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%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erah penola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,757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lt;   1,96 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arti Ho diteri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ditol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simpu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si pencapaian imunisasi kedua kecamatan tidak beda, pad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5029200" y="3200400"/>
          <a:ext cx="3581280" cy="15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00400"/>
                    <a:ext cx="358128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oh Aplikasi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il survey terhadap 628 orang di slum area dengan kondisi sanitasi jelek didapatkan 432 orang terkena diare. Sebagai pembanding disurvey 483 orang perdesaan didapatkan 314 orang menderita diare. Selidikilah deng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0%, apakah diare di daerah slum area lebih tinggi daripada di daerah perdesaa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yelesaian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o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: Dp  = Ds; tidak beda kasus diare di daerah slum area dengan di perdes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: Dp &lt; Ds ; ada beda kasus diare di daerah slum area dengan di perdes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signifkansi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mus statistik pengu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5"/>
              <p:cNvSpPr txBox="1"/>
              <p:nvPr/>
            </p:nvSpPr>
            <p:spPr>
              <a:xfrm>
                <a:off x="609480" y="1676520"/>
                <a:ext cx="304812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685800" y="4495680"/>
                <a:ext cx="259092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ung rumus statistik penguj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432 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628 ;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314 ;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483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=1 – p = 1 – 0,67 = 0,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914400" y="2590920"/>
                <a:ext cx="250812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3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28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83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ung rumus statistik penguj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990720" y="1523880"/>
                <a:ext cx="5175000" cy="471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q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3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28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1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83</m:t>
                                </m:r>
                              </m:den>
                            </m:f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628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483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4582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/db/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alam uji  Z tidak diperlukan nilai df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lai t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ilai tabel pada tabel Z kurva normal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i satu sis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%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= 1,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erah penola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5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2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arti Ho ditola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 dite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simpu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 beda kasus diare di daerah slum area dengan di perdesaan, pad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5562720" y="3581280"/>
            <a:ext cx="300996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144000" cy="10485360"/>
        </p:xfrm>
        <a:graphic>
          <a:graphicData uri="http://schemas.openxmlformats.org/drawingml/2006/table">
            <a:tbl>
              <a:tblPr/>
              <a:tblGrid>
                <a:gridCol w="476280"/>
                <a:gridCol w="866880"/>
                <a:gridCol w="866520"/>
                <a:gridCol w="838440"/>
                <a:gridCol w="895320"/>
                <a:gridCol w="866520"/>
                <a:gridCol w="866880"/>
                <a:gridCol w="866880"/>
                <a:gridCol w="866880"/>
                <a:gridCol w="866520"/>
                <a:gridCol w="86688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0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96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9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88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84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8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76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7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68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6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6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5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52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48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4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4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36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3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28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2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2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1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12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09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05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0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97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9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89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85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8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78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7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7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66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63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9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5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8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37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3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3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6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19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15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1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0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05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0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98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9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9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87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8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8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77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7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7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67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6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6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57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5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5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48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4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4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38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35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3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9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6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17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14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1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09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06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03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0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97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94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92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89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86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8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8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78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7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7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7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6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66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6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6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8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49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46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4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4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4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7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5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9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19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17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1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13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1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09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07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05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0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0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0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9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9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9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93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9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9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8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86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85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8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82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8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79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77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76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74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7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7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7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9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8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5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9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8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5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4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2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0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9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7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6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5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9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8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7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6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5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4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2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2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30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9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8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8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7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5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5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4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3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2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9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9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8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8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7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7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7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6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5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5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5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2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2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0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9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9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9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9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8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8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8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8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8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7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7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7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6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6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6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6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5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5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5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5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5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4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4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4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4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2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2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2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02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01</a:t>
                      </a:r>
                      <a:endParaRPr b="1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gun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Menguji perbedaan proporsi pernyataan</a:t>
            </a:r>
            <a:br>
              <a:rPr sz="3200"/>
            </a:b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/ pendapat anggapan / standar /</a:t>
            </a:r>
            <a:br>
              <a:rPr sz="3200"/>
            </a:b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ketentuan baku / peraturan dengan data</a:t>
            </a:r>
            <a:br>
              <a:rPr sz="3200"/>
            </a:b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hasil kenyataan di lapan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m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4038480"/>
            <a:ext cx="822960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Z=nilai 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X=banyaknya kejad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o=proporsi anggapan / standar / acu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N=banyaknya sampe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76520" y="1447920"/>
            <a:ext cx="533376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3200" spc="-1" strike="noStrike">
                <a:solidFill>
                  <a:srgbClr val="000000"/>
                </a:solidFill>
                <a:latin typeface="Arial"/>
              </a:rPr>
              <a:t>Z = __________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3276720" y="198108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32767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4267080" y="15238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id-ID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3"/>
          <p:cNvSpPr/>
          <p:nvPr/>
        </p:nvSpPr>
        <p:spPr>
          <a:xfrm>
            <a:off x="3962520" y="19810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6"/>
          <p:cNvSpPr/>
          <p:nvPr/>
        </p:nvSpPr>
        <p:spPr>
          <a:xfrm>
            <a:off x="2590920" y="281952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8"/>
          <p:cNvSpPr/>
          <p:nvPr/>
        </p:nvSpPr>
        <p:spPr>
          <a:xfrm flipV="1">
            <a:off x="2894760" y="266652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0"/>
          <p:cNvSpPr/>
          <p:nvPr/>
        </p:nvSpPr>
        <p:spPr>
          <a:xfrm>
            <a:off x="3124080" y="26668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2"/>
          <p:cNvSpPr/>
          <p:nvPr/>
        </p:nvSpPr>
        <p:spPr>
          <a:xfrm>
            <a:off x="3505320" y="32004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3"/>
          <p:cNvSpPr/>
          <p:nvPr/>
        </p:nvSpPr>
        <p:spPr>
          <a:xfrm>
            <a:off x="3429000" y="2819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o ( 1 –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o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4"/>
          <p:cNvSpPr/>
          <p:nvPr/>
        </p:nvSpPr>
        <p:spPr>
          <a:xfrm>
            <a:off x="3581280" y="3352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tentuan aplika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si bin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kansi, nilai hasil hitung Z dibandingkan dengan nilai tabel distribusi normal. Pada uji dua sisi daerah penerimaan Ho, jika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,5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it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,5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edangkan pada uji satu sisi daerah penerimaan Ho,jika .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hitu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oh aplikasi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Pendapat seorang pakar bahwa Program KB di Surakarta Baru mencapai 85% dari populasi. Apakah pendapat pakar tersebut benar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Setelah survey 6800 yang ikut 5824 yang tidak ikut 976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 =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α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,10% = 1,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yelesaian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o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; tidak beda proporsi pencapaian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rogram KB 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;ada beda proporsi pencapaian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rogram KB ( &gt; / &lt; 85%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signifkansi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m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4038480"/>
            <a:ext cx="822960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KESIMPU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1,5048 &gt; 1,28 Berarti lebih dari 85% sudah ikut program 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76520" y="1447920"/>
            <a:ext cx="533376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58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3200" spc="-1" strike="noStrike">
                <a:solidFill>
                  <a:srgbClr val="000000"/>
                </a:solidFill>
                <a:latin typeface="Arial"/>
              </a:rPr>
              <a:t>Z = __________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8"/>
          <p:cNvSpPr/>
          <p:nvPr/>
        </p:nvSpPr>
        <p:spPr>
          <a:xfrm>
            <a:off x="3276720" y="198108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312408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68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4267080" y="15238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000" spc="-1" strike="noStrike">
                <a:solidFill>
                  <a:srgbClr val="000000"/>
                </a:solidFill>
                <a:latin typeface="Arial"/>
              </a:rPr>
              <a:t>0,8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13"/>
          <p:cNvSpPr/>
          <p:nvPr/>
        </p:nvSpPr>
        <p:spPr>
          <a:xfrm>
            <a:off x="3962520" y="19810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6"/>
          <p:cNvSpPr/>
          <p:nvPr/>
        </p:nvSpPr>
        <p:spPr>
          <a:xfrm>
            <a:off x="2590920" y="281952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8"/>
          <p:cNvSpPr/>
          <p:nvPr/>
        </p:nvSpPr>
        <p:spPr>
          <a:xfrm flipV="1">
            <a:off x="2894760" y="266652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20"/>
          <p:cNvSpPr/>
          <p:nvPr/>
        </p:nvSpPr>
        <p:spPr>
          <a:xfrm>
            <a:off x="3124080" y="2666880"/>
            <a:ext cx="2819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22"/>
          <p:cNvSpPr/>
          <p:nvPr/>
        </p:nvSpPr>
        <p:spPr>
          <a:xfrm>
            <a:off x="3505320" y="32004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3429000" y="2819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Arial"/>
              </a:rPr>
              <a:t>0,85 ( 1 – 0,85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3581280" y="33526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Arial"/>
              </a:rPr>
              <a:t>68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6629400" y="2057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Arial"/>
              </a:rPr>
              <a:t>= 1,504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ji beda proporsi dua sampel Z te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2:56:39Z</dcterms:created>
  <dc:creator>user1</dc:creator>
  <dc:description/>
  <dc:language>en-US</dc:language>
  <cp:lastModifiedBy>hpcq3000</cp:lastModifiedBy>
  <dcterms:modified xsi:type="dcterms:W3CDTF">2011-10-06T05:49:27Z</dcterms:modified>
  <cp:revision>27</cp:revision>
  <dc:subject/>
  <dc:title>Z test untuk menguji beda dua proporsi</dc:title>
</cp:coreProperties>
</file>