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461-E039-4FEF-B76F-9B1792C9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C3B-2265-4430-924C-7A9480E1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F6A-F418-47FB-942F-7FC048F7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8EA6-E70E-40E2-8E21-BB3B780F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791-35FF-4575-89BE-F7029AB9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43D7-A003-4466-B921-6652D28B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D1A-388E-4800-93C0-5C4FABE4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7C2-FFBD-4366-8FFC-DDFFFC82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49C-9953-4077-A31E-389F00F9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067-9244-4776-BFD5-8F63AFCF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D09-FFE5-4C42-8BF5-5380393C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A3D-59EA-4C35-9120-0C059A86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996B-B476-4755-8B45-C5C5E4A17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1773360"/>
            <a:ext cx="237636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El antiguo Régim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219320"/>
            <a:ext cx="74833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La derrota d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Trafalgar (1808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4319640" cy="306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64000" y="2492280"/>
            <a:ext cx="36007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6680160" cy="4254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3240" y="380880"/>
            <a:ext cx="91472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Proclamación de Fernando VI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(1808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384120"/>
            <a:ext cx="4592880" cy="6069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62720" y="2362320"/>
            <a:ext cx="281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María Lui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de Pal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180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844640"/>
            <a:ext cx="6978600" cy="4581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228600"/>
            <a:ext cx="1974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Rendición de las tropas france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contra España en Bailén (180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9618 0.67801 C -0.66979 0.60926 -0.54323 0.54074 -0.49357 0.51319 E">
                                      <p:cBhvr>
                                        <p:cTn id="201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284720" y="549360"/>
            <a:ext cx="4681440" cy="594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82880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Firma d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rat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de Bayon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              (180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Fusilamiento del 2 de May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1808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3500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4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343400" y="378000"/>
            <a:ext cx="3397320" cy="6251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" y="243828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Fernando XI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180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4089240" cy="5565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0" y="1905120"/>
            <a:ext cx="457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Real Decre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de S.M.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Consulta al país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180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62520" y="228600"/>
            <a:ext cx="4692600" cy="3546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24360" y="3635280"/>
            <a:ext cx="5219640" cy="322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5335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Primera junta de </a:t>
            </a: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gobi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(181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65760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Firma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la Independenc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de Venezu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211640" y="189000"/>
            <a:ext cx="3959280" cy="6119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52880" y="1981080"/>
            <a:ext cx="394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2708280"/>
            <a:ext cx="3166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Iglesia de San Fernand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      (181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347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160800" cy="6096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48320" y="1905120"/>
            <a:ext cx="32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Carlos IV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18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Reunión en la Iglesia mayor antes de hacer la Constitución (18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58672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5334120" cy="4227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835280" y="549360"/>
            <a:ext cx="4728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9480" y="620640"/>
            <a:ext cx="69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Ayuntamiento de Cádiz (181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38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Junta de gobierno de Venezuel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 181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5462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Apertura de las Cortes Generales (1811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5454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edalla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onmemorativa de la</a:t>
            </a: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onstitución ( 181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3110040" cy="4462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11640" y="1989000"/>
            <a:ext cx="34196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Alegoría de la jura de la Constitución (1812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1746360"/>
            <a:ext cx="701064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La proclamación de la Constitución (1812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723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768840" cy="5545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0" y="1219320"/>
            <a:ext cx="3809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La verda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constitucion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es un grab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de Goy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1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780000" cy="5915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0" y="259092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Alegoría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la Constitució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1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Teatro de Isla de Leó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San Fernando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12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2222640"/>
            <a:ext cx="617220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35520" y="990720"/>
            <a:ext cx="4029120" cy="493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981080"/>
            <a:ext cx="577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gustina d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Aragón (1788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69264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Bolsón dond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se transport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la Constitució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(181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57800" y="2514600"/>
            <a:ext cx="3054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37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Decre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represión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la Inquisició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12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 rot="20812200">
            <a:off x="768240" y="718920"/>
            <a:ext cx="313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Constitución polític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de la monarquía español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1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2532240"/>
            <a:ext cx="68482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3936960" cy="5486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38480" y="1523880"/>
            <a:ext cx="455292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Oratorio d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San Felipe Ner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(Cádiz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(1812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5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5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El Congreso de Tucumá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México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1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771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3727440" cy="6115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724280" y="609480"/>
            <a:ext cx="4724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Avisan al públic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que van a invad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los reinos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Córdob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Jaén, Grana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y Sevill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1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Jura de la Constitució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20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8487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Vista del salón de Cort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de la nación español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21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2227320"/>
            <a:ext cx="83055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Alegoría de la liberació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de España por los frances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34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93432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La libertad  guiando al puebl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 ( 1789)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6338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La libertad al puebl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(178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4524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1120" y="609480"/>
            <a:ext cx="4316400" cy="575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1640" y="2133720"/>
            <a:ext cx="344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Manuel  God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180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Entrada triunfante de los franceses en la ciudad de Madri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(18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7199280" cy="42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67080" y="2057040"/>
            <a:ext cx="4572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José 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Bonapart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(180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3156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88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Recibimiento en Bayon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1808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7040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1:50:22Z</dcterms:created>
  <dc:creator>miriam delgado</dc:creator>
  <dc:description/>
  <dc:language>en-US</dc:language>
  <cp:lastModifiedBy>miriam delgado</cp:lastModifiedBy>
  <dcterms:modified xsi:type="dcterms:W3CDTF">2010-10-14T12:28:48Z</dcterms:modified>
  <cp:revision>2</cp:revision>
  <dc:subject/>
  <dc:title>Diapositiva 1</dc:title>
</cp:coreProperties>
</file>