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6FB-19E2-4DD6-B3A5-A7DEF98A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D8A-D72A-4174-BEA4-6ACA0D2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958-D9C0-42E7-8317-20AC54B5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638-D5D3-4DDE-B0C7-2E589BDE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9A1-7CC6-4F66-89B8-EA2063ED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3C4-43D8-4877-8BF6-F9EDB92E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EB0-6CD8-45A1-A38C-5FD48A4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972-BD02-4F32-A175-09DAAEE4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861-1857-4DD8-A772-708E607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0B4-8ADF-4CCA-85A9-92A99817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A08-54C4-4423-9733-C35CE692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DCF-5C06-4D93-ADE4-EDD826C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DF6B-6E5E-46D3-99A9-C86B24990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37636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El antiguo Régim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219320"/>
            <a:ext cx="7483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La derrota 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Trafalgar (180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4319640" cy="306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6007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680160" cy="425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3240" y="380880"/>
            <a:ext cx="91472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Proclamación de Fernando VI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384120"/>
            <a:ext cx="4592880" cy="606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2720" y="2362320"/>
            <a:ext cx="281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María Lui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Pal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844640"/>
            <a:ext cx="6978600" cy="4581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28600"/>
            <a:ext cx="197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Rendición de las tropas france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contra España en Bailén (180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9618 0.67801 C -0.66979 0.60926 -0.54323 0.54074 -0.49357 0.51319 E">
                                      <p:cBhvr>
                                        <p:cTn id="20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4681440" cy="59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8288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irma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rat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Bayon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   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usilamiento del 2 de May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500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378000"/>
            <a:ext cx="3397320" cy="6251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24382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ernando X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089240" cy="5565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190512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Real Decre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S.M.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Consulta al país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4692600" cy="354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24360" y="3635280"/>
            <a:ext cx="5219640" cy="322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335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Primera junta de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gobi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(18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6576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Firma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la Independe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de Venezu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2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3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3959280" cy="611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1981080"/>
            <a:ext cx="394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2708280"/>
            <a:ext cx="3166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Iglesia de San Fernand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    (18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4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160800" cy="609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8320" y="190512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arlos I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18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eunión en la Iglesia mayor antes de hacer la Constitución (18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58672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334120" cy="4227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35280" y="549360"/>
            <a:ext cx="472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9480" y="620640"/>
            <a:ext cx="69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yuntamiento de Cádiz (18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Junta de gobierno de Venezuel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 181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5462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Apertura de las Cortes Generales (1811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545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edalla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memorativa de la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itución ( 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110040" cy="446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34196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legoría de la jura de la Constitución 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746360"/>
            <a:ext cx="70106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proclamación de la Constitución 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723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768840" cy="554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1219320"/>
            <a:ext cx="3809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ver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onstitucion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es un grab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Go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780000" cy="5915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25909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legoría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Constitu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Teatro de Isla de Le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San Fernando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2222640"/>
            <a:ext cx="61722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35520" y="990720"/>
            <a:ext cx="4029120" cy="493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981080"/>
            <a:ext cx="57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gustina d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Aragón (1788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69264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Bolsón don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se transport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la Constituc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054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cre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represión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a Inquisi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20812200">
            <a:off x="768240" y="718920"/>
            <a:ext cx="313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onstitución polític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la monarquía español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532240"/>
            <a:ext cx="68482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936960" cy="548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1523880"/>
            <a:ext cx="45529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Oratorio 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San Felipe Ner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(Cádiz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(1812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El Congreso de Tucumá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México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771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3727440" cy="6115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24280" y="609480"/>
            <a:ext cx="4724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visan al públic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que van a invad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los reino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órdob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Jaén, Gran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y Sevil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Jura de la Constitu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2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Vista del salón de Cort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la nación español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21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2227320"/>
            <a:ext cx="83055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Alegoría de la libera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de España por los france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(1834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343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La libertad  guiando al puebl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 ( 1789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6338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La libertad al puebl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17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524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316400" cy="575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133720"/>
            <a:ext cx="344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Manuel  God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ntrada triunfante de los franceses en la ciudad de Madri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19928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67080" y="205704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José 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Bonapart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3156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Recibimiento en Bayon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180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7040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1:50:22Z</dcterms:created>
  <dc:creator>miriam delgado</dc:creator>
  <dc:description/>
  <dc:language>en-US</dc:language>
  <cp:lastModifiedBy>miriam delgado</cp:lastModifiedBy>
  <dcterms:modified xsi:type="dcterms:W3CDTF">2010-10-14T12:28:48Z</dcterms:modified>
  <cp:revision>2</cp:revision>
  <dc:subject/>
  <dc:title>Diapositiva 1</dc:title>
</cp:coreProperties>
</file>