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%D9%85%D9%88%D8%AC.wav" ContentType="audio/x-wav"/>
  <Override PartName="/ppt/media/image13.wmf" ContentType="image/x-wmf"/>
  <Override PartName="/ppt/media/image14.png" ContentType="image/png"/>
  <Override PartName="/ppt/media/SOUND560.WAV" ContentType="audio/x-wav"/>
  <Override PartName="/ppt/media/SOUND827.WAV" ContentType="audio/x-wav"/>
  <Override PartName="/ppt/media/image11.jpeg" ContentType="image/jpeg"/>
  <Override PartName="/ppt/media/tada.wav" ContentType="audio/x-wav"/>
  <Override PartName="/ppt/media/image12.png" ContentType="image/png"/>
  <Override PartName="/ppt/media/image7.wmf" ContentType="image/x-wmf"/>
  <Override PartName="/ppt/media/laser.wav" ContentType="audio/x-wav"/>
  <Override PartName="/ppt/media/image16.jpeg" ContentType="image/jpeg"/>
  <Override PartName="/ppt/media/image1.jpeg" ContentType="image/jpeg"/>
  <Override PartName="/ppt/media/image10.png" ContentType="image/png"/>
  <Override PartName="/ppt/media/click.wav" ContentType="audio/x-wav"/>
  <Override PartName="/ppt/media/image4.wmf" ContentType="image/x-wmf"/>
  <Override PartName="/ppt/media/0029%20-%20Windows%20error%20sound.wav" ContentType="audio/x-wav"/>
  <Override PartName="/ppt/media/image2.wmf" ContentType="image/x-wmf"/>
  <Override PartName="/ppt/media/chimes.wav" ContentType="audio/x-wav"/>
  <Override PartName="/ppt/media/cashreg.wav" ContentType="audio/x-wav"/>
  <Override PartName="/ppt/media/image9.png" ContentType="image/png"/>
  <Override PartName="/ppt/media/image22.jpeg" ContentType="image/jpeg"/>
  <Override PartName="/ppt/media/image8.wmf" ContentType="image/x-wmf"/>
  <Override PartName="/ppt/media/Disconnect.wav" ContentType="audio/x-wav"/>
  <Override PartName="/ppt/media/hammer.wav" ContentType="audio/x-wav"/>
  <Override PartName="/ppt/media/wind.wav" ContentType="audio/x-wav"/>
  <Override PartName="/ppt/media/image17.wmf" ContentType="image/x-wmf"/>
  <Override PartName="/ppt/media/Cowbell.wav" ContentType="audio/x-wav"/>
  <Override PartName="/ppt/media/image20.gif" ContentType="image/gif"/>
  <Override PartName="/ppt/media/coin.wav" ContentType="audio/x-wav"/>
  <Override PartName="/ppt/media/Birds.wav" ContentType="audio/x-wav"/>
  <Override PartName="/ppt/media/0068%20-%20applause.wav" ContentType="audio/x-wav"/>
  <Override PartName="/ppt/media/son%20notify.wav" ContentType="audio/x-wav"/>
  <Override PartName="/ppt/media/image5.jpeg" ContentType="image/jpeg"/>
  <Override PartName="/ppt/media/image24.jpeg" ContentType="image/jpeg"/>
  <Override PartName="/ppt/media/0034%20-%20Windows%20error%20sound.wav" ContentType="audio/x-wav"/>
  <Override PartName="/ppt/media/breeze.wav" ContentType="audio/x-wav"/>
  <Override PartName="/ppt/media/cached_gapbonus1.wav" ContentType="audio/x-wav"/>
  <Override PartName="/ppt/media/arrow.wav" ContentType="audio/x-wav"/>
  <Override PartName="/ppt/media/%D8%B7%D9%8A%D9%88%D8%B1%20%D8%A7%D9%84%D8%A8%D8%AD%D8%B1.WAV" ContentType="audio/x-wav"/>
  <Override PartName="/ppt/media/image25.png" ContentType="image/png"/>
  <Override PartName="/ppt/media/SOUND28.WAV" ContentType="audio/x-wav"/>
  <Override PartName="/ppt/media/image26.png" ContentType="image/png"/>
  <Override PartName="/ppt/media/SOUND20.WAV" ContentType="audio/x-wav"/>
  <Override PartName="/ppt/media/image15.wmf" ContentType="image/x-wmf"/>
  <Override PartName="/ppt/media/image23.png" ContentType="image/png"/>
  <Override PartName="/ppt/media/push.wav" ContentType="audio/x-wav"/>
  <Override PartName="/ppt/media/cached_button1.wav" ContentType="audio/x-wav"/>
  <Override PartName="/ppt/media/voltage.wav" ContentType="audio/x-wav"/>
  <Override PartName="/ppt/media/image6.jpeg" ContentType="image/jpeg"/>
  <Override PartName="/ppt/media/image18.png" ContentType="image/png"/>
  <Override PartName="/ppt/media/cached_gemvanishes.wav" ContentType="audio/x-wav"/>
  <Override PartName="/ppt/media/image3.wmf" ContentType="image/x-wmf"/>
  <Override PartName="/ppt/media/0028%20-%20%D8%BA%D9%84%D9%82%20%D8%A7%D9%84%D9%88%D9%8A%D9%86%D8%AF%D9%88%D8%B2.wav" ContentType="audio/x-wav"/>
  <Override PartName="/ppt/media/image2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B1B-05B8-4F39-8404-868AD641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41F-17E4-4396-AFC6-5E0A70C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C4E-44EB-44D9-BD6A-E910356D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A9D-2138-4516-9634-3B1A8FE8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5DF4-5A04-4AE9-BBCD-9EAAC0C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793-29CA-411E-9FB2-39A8C429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D8A-3297-4A56-AA0C-AB46671E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A96-7EA5-42F9-88BB-DE4FCF2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2722-9E34-4F90-8F20-B3E16600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A3B-4A21-493A-89C0-B5DD349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765-36E7-4C4D-BC41-8114A03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35F-218B-465D-8ABB-851955E9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1AC0-D0F0-49FA-88B8-F006FD8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4359-4682-4FAD-AACD-09E8685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A4C-966D-475B-8FFF-A66739E5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66F-5909-46F3-967A-BF5220D1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1FFF-E4B0-4ED3-BAEF-BDE6CD90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DB3-10B8-4521-ABFD-CFB8E99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B21-4E90-452E-8A2A-05E5573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31A-7BB6-47B8-B8F0-23E02094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FDE-9855-4C56-BAD5-150DEE5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842-C85B-4763-8ED7-85B9DF7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E82-F2CA-4B60-A2E3-B044A8D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DB7-67D0-4D8E-B38C-1541E86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567C-6073-46BD-99AC-4C6469F291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C84-FF33-4BCA-8B0B-7AD5FF23F5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audio" Target="../media/0028%20-%20&#1594;&#1604;&#1602;%20&#1575;&#1604;&#1608;&#1610;&#1606;&#1583;&#1608;&#1586;.wav"/><Relationship Id="rId5" Type="http://schemas.openxmlformats.org/officeDocument/2006/relationships/audio" Target="../media/wind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028%20-%20&#1594;&#1604;&#1602;%20&#1575;&#1604;&#1608;&#1610;&#1606;&#1583;&#1608;&#1586;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2.jpe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Birds.wav"/><Relationship Id="rId12" Type="http://schemas.openxmlformats.org/officeDocument/2006/relationships/audio" Target="../media/cached_button1.wav"/><Relationship Id="rId13" Type="http://schemas.openxmlformats.org/officeDocument/2006/relationships/audio" Target="../media/breez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4.jpe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0034%20-%20Windows%20error%20sound.wav"/><Relationship Id="rId12" Type="http://schemas.openxmlformats.org/officeDocument/2006/relationships/audio" Target="../media/SOUND20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5.pn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cached_gemvanishes.wav"/><Relationship Id="rId12" Type="http://schemas.openxmlformats.org/officeDocument/2006/relationships/audio" Target="../media/SOUND28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0.gif"/><Relationship Id="rId4" Type="http://schemas.openxmlformats.org/officeDocument/2006/relationships/audio" Target="../media/0028%20-%20&#1594;&#1604;&#1602;%20&#1575;&#1604;&#1608;&#1610;&#1606;&#1583;&#1608;&#1586;.wav"/><Relationship Id="rId5" Type="http://schemas.openxmlformats.org/officeDocument/2006/relationships/audio" Target="../media/chimes.wav"/><Relationship Id="rId6" Type="http://schemas.openxmlformats.org/officeDocument/2006/relationships/audio" Target="../media/cached_gapbonus1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0028%20-%20&#1594;&#1604;&#1602;%20&#1575;&#1604;&#1608;&#1610;&#1606;&#1583;&#1608;&#1586;.wav"/><Relationship Id="rId6" Type="http://schemas.openxmlformats.org/officeDocument/2006/relationships/audio" Target="../media/voltage.wav"/><Relationship Id="rId7" Type="http://schemas.openxmlformats.org/officeDocument/2006/relationships/audio" Target="../media/tada.wav"/><Relationship Id="rId8" Type="http://schemas.openxmlformats.org/officeDocument/2006/relationships/audio" Target="../media/hamm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audio" Target="../media/0028%20-%20&#1594;&#1604;&#1602;%20&#1575;&#1604;&#1608;&#1610;&#1606;&#1583;&#1608;&#1586;.wav"/><Relationship Id="rId8" Type="http://schemas.openxmlformats.org/officeDocument/2006/relationships/audio" Target="../media/SOUND827.WAV"/><Relationship Id="rId9" Type="http://schemas.openxmlformats.org/officeDocument/2006/relationships/audio" Target="../media/0029%20-%20Windows%20error%20sound.wav"/><Relationship Id="rId10" Type="http://schemas.openxmlformats.org/officeDocument/2006/relationships/audio" Target="../media/SOUND560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laser.wav"/><Relationship Id="rId16" Type="http://schemas.openxmlformats.org/officeDocument/2006/relationships/audio" Target="../media/wind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audio" Target="../media/0028%20-%20&#1594;&#1604;&#1602;%20&#1575;&#1604;&#1608;&#1610;&#1606;&#1583;&#1608;&#1586;.wav"/><Relationship Id="rId19" Type="http://schemas.openxmlformats.org/officeDocument/2006/relationships/audio" Target="../media/chimes.wav"/><Relationship Id="rId20" Type="http://schemas.openxmlformats.org/officeDocument/2006/relationships/audio" Target="../media/click.wav"/><Relationship Id="rId21" Type="http://schemas.openxmlformats.org/officeDocument/2006/relationships/audio" Target="../media/&#1605;&#1608;&#1580;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&#1591;&#1610;&#1608;&#1585;%20&#1575;&#1604;&#1576;&#1581;&#1585;.WAV"/><Relationship Id="rId28" Type="http://schemas.openxmlformats.org/officeDocument/2006/relationships/audio" Target="../media/cashreg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028%20-%20&#1594;&#1604;&#1602;%20&#1575;&#1604;&#1608;&#1610;&#1606;&#1583;&#1608;&#1586;.wav"/><Relationship Id="rId2" Type="http://schemas.openxmlformats.org/officeDocument/2006/relationships/audio" Target="../media/push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4.png"/><Relationship Id="rId18" Type="http://schemas.openxmlformats.org/officeDocument/2006/relationships/audio" Target="../media/0028%20-%20&#1594;&#1604;&#1602;%20&#1575;&#1604;&#1608;&#1610;&#1606;&#1583;&#1608;&#1586;.wav"/><Relationship Id="rId19" Type="http://schemas.openxmlformats.org/officeDocument/2006/relationships/audio" Target="../media/breeze.wav"/><Relationship Id="rId20" Type="http://schemas.openxmlformats.org/officeDocument/2006/relationships/audio" Target="../media/hammer.wav"/><Relationship Id="rId21" Type="http://schemas.openxmlformats.org/officeDocument/2006/relationships/audio" Target="../media/push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coin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jpe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0028%20-%20&#1594;&#1604;&#1602;%20&#1575;&#1604;&#1608;&#1610;&#1606;&#1583;&#1608;&#1586;.wav"/><Relationship Id="rId14" Type="http://schemas.openxmlformats.org/officeDocument/2006/relationships/audio" Target="../media/son%20notify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arrow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voltage.wav"/><Relationship Id="rId4" Type="http://schemas.openxmlformats.org/officeDocument/2006/relationships/audio" Target="../media/&#1591;&#1610;&#1608;&#1585;%20&#1575;&#1604;&#1576;&#1581;&#1585;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14400" y="533520"/>
            <a:ext cx="4191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نشاط منزلى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905120" y="3352680"/>
            <a:ext cx="5790960" cy="2438640"/>
          </a:xfrm>
          <a:prstGeom prst="upArrowCallout">
            <a:avLst>
              <a:gd name="adj1" fmla="val 65243"/>
              <a:gd name="adj2" fmla="val 65226"/>
              <a:gd name="adj3" fmla="val 16667"/>
              <a:gd name="adj4" fmla="val 66660"/>
            </a:avLst>
          </a:prstGeom>
          <a:solidFill>
            <a:srgbClr val="662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اطلب إلى طفلك تكوين مجموعتين من الاو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النقدية لكى تشترى  سلعة من المنج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ثمنها أقل من 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100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ري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BARN01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4" name="0028%20-%20%D8%BA%D9%84%D9%82%20%D8%A7%D9%84%D9%88%D9%8A%D9%86%D8%AF%D9%88%D8%B2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438280" y="2590920"/>
            <a:ext cx="432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  <p:sndAc>
      <p:stSnd>
        <p:snd r:embed="rId1" name="0028%20-%20%D8%BA%D9%84%D9%82%20%D8%A7%D9%84%D9%88%D9%8A%D9%86%D8%AF%D9%88%D8%B2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3"/>
          <p:cNvSpPr/>
          <p:nvPr/>
        </p:nvSpPr>
        <p:spPr>
          <a:xfrm>
            <a:off x="762120" y="304920"/>
            <a:ext cx="7696080" cy="10666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66760 h 1066680"/>
              <a:gd name="textAreaBottom" fmla="*/ 994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solidFill>
            <a:srgbClr val="b0a4fa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99"/>
                </a:solidFill>
                <a:latin typeface="Arial"/>
              </a:rPr>
              <a:t>أستعمل الأوراق النقدية، وأعد ثم أكتب المجمو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715000" y="4876920"/>
            <a:ext cx="2808360" cy="104112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914400" y="4800600"/>
            <a:ext cx="3529080" cy="6015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7024320" y="1376280"/>
            <a:ext cx="1681200" cy="1514520"/>
            <a:chOff x="7024320" y="1376280"/>
            <a:chExt cx="1681200" cy="1514520"/>
          </a:xfrm>
        </p:grpSpPr>
        <p:pic>
          <p:nvPicPr>
            <p:cNvPr id="170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086240" y="1447560"/>
              <a:ext cx="1557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9"/>
            <p:cNvSpPr/>
            <p:nvPr/>
          </p:nvSpPr>
          <p:spPr>
            <a:xfrm rot="592800">
              <a:off x="7512480" y="156564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2401560" y="2000520"/>
            <a:ext cx="4807800" cy="1683360"/>
            <a:chOff x="2401560" y="2000520"/>
            <a:chExt cx="4807800" cy="1683360"/>
          </a:xfrm>
        </p:grpSpPr>
        <p:pic>
          <p:nvPicPr>
            <p:cNvPr id="173" name="Picture 11" descr="5 ريال سعودي"/>
            <p:cNvPicPr/>
            <p:nvPr/>
          </p:nvPicPr>
          <p:blipFill>
            <a:blip r:embed="rId2"/>
            <a:stretch/>
          </p:blipFill>
          <p:spPr>
            <a:xfrm rot="19625400">
              <a:off x="2468520" y="2479680"/>
              <a:ext cx="16765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4" descr="5 ريال سعودي"/>
            <p:cNvPicPr/>
            <p:nvPr/>
          </p:nvPicPr>
          <p:blipFill>
            <a:blip r:embed="rId3"/>
            <a:stretch/>
          </p:blipFill>
          <p:spPr>
            <a:xfrm rot="19625400">
              <a:off x="2923920" y="2437920"/>
              <a:ext cx="16765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5 ريال سعودي"/>
            <p:cNvPicPr/>
            <p:nvPr/>
          </p:nvPicPr>
          <p:blipFill>
            <a:blip r:embed="rId4"/>
            <a:stretch/>
          </p:blipFill>
          <p:spPr>
            <a:xfrm rot="19625400">
              <a:off x="3386520" y="2471760"/>
              <a:ext cx="16765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5 ريال سعودي"/>
            <p:cNvPicPr/>
            <p:nvPr/>
          </p:nvPicPr>
          <p:blipFill>
            <a:blip r:embed="rId5"/>
            <a:stretch/>
          </p:blipFill>
          <p:spPr>
            <a:xfrm rot="19625400">
              <a:off x="3848760" y="2505960"/>
              <a:ext cx="16765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4-10f"/>
            <p:cNvPicPr/>
            <p:nvPr/>
          </p:nvPicPr>
          <p:blipFill>
            <a:blip r:embed="rId6"/>
            <a:stretch/>
          </p:blipFill>
          <p:spPr>
            <a:xfrm rot="19624800">
              <a:off x="4306680" y="2459880"/>
              <a:ext cx="17524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2" descr="4-10f"/>
            <p:cNvPicPr/>
            <p:nvPr/>
          </p:nvPicPr>
          <p:blipFill>
            <a:blip r:embed="rId7"/>
            <a:stretch/>
          </p:blipFill>
          <p:spPr>
            <a:xfrm rot="19624800">
              <a:off x="4838040" y="2411280"/>
              <a:ext cx="17524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4-10f"/>
            <p:cNvPicPr/>
            <p:nvPr/>
          </p:nvPicPr>
          <p:blipFill>
            <a:blip r:embed="rId8"/>
            <a:stretch/>
          </p:blipFill>
          <p:spPr>
            <a:xfrm rot="19624800">
              <a:off x="5376240" y="2438280"/>
              <a:ext cx="175284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23"/>
          <p:cNvGrpSpPr/>
          <p:nvPr/>
        </p:nvGrpSpPr>
        <p:grpSpPr>
          <a:xfrm>
            <a:off x="457200" y="1752480"/>
            <a:ext cx="2286000" cy="2171880"/>
            <a:chOff x="457200" y="1752480"/>
            <a:chExt cx="2286000" cy="2171880"/>
          </a:xfrm>
        </p:grpSpPr>
        <p:pic>
          <p:nvPicPr>
            <p:cNvPr id="181" name="Picture 20" descr="user98_pic357_1228947768"/>
            <p:cNvPicPr/>
            <p:nvPr/>
          </p:nvPicPr>
          <p:blipFill>
            <a:blip r:embed="rId9"/>
            <a:srcRect l="8692" t="0" r="13051" b="0"/>
            <a:stretch/>
          </p:blipFill>
          <p:spPr>
            <a:xfrm>
              <a:off x="457200" y="2171880"/>
              <a:ext cx="1371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22"/>
            <p:cNvSpPr/>
            <p:nvPr/>
          </p:nvSpPr>
          <p:spPr>
            <a:xfrm>
              <a:off x="1828800" y="1752480"/>
              <a:ext cx="914400" cy="990720"/>
            </a:xfrm>
            <a:prstGeom prst="cloudCallout">
              <a:avLst>
                <a:gd name="adj1" fmla="val -76041"/>
                <a:gd name="adj2" fmla="val 48398"/>
              </a:avLst>
            </a:prstGeom>
            <a:solidFill>
              <a:srgbClr val="ff99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8"/>
          <p:cNvSpPr/>
          <p:nvPr/>
        </p:nvSpPr>
        <p:spPr>
          <a:xfrm>
            <a:off x="6863400" y="50292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9"/>
          <p:cNvSpPr/>
          <p:nvPr/>
        </p:nvSpPr>
        <p:spPr>
          <a:xfrm>
            <a:off x="1676520" y="5867280"/>
            <a:ext cx="152388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00"/>
                </a:solidFill>
                <a:latin typeface="Arial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ird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ched_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6"/>
          <p:cNvSpPr/>
          <p:nvPr/>
        </p:nvSpPr>
        <p:spPr>
          <a:xfrm>
            <a:off x="4952880" y="4267080"/>
            <a:ext cx="2808360" cy="104148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124080" y="5715000"/>
            <a:ext cx="4419720" cy="754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7452000" y="500760"/>
            <a:ext cx="1238760" cy="1664280"/>
            <a:chOff x="7452000" y="500760"/>
            <a:chExt cx="1238760" cy="1664280"/>
          </a:xfrm>
        </p:grpSpPr>
        <p:pic>
          <p:nvPicPr>
            <p:cNvPr id="188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524360" y="54936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0"/>
            <p:cNvSpPr/>
            <p:nvPr/>
          </p:nvSpPr>
          <p:spPr>
            <a:xfrm rot="592800">
              <a:off x="7669080" y="7120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1"/>
          <p:cNvGrpSpPr/>
          <p:nvPr/>
        </p:nvGrpSpPr>
        <p:grpSpPr>
          <a:xfrm>
            <a:off x="1990800" y="270000"/>
            <a:ext cx="5019120" cy="1778760"/>
            <a:chOff x="1990800" y="270000"/>
            <a:chExt cx="5019120" cy="1778760"/>
          </a:xfrm>
        </p:grpSpPr>
        <p:pic>
          <p:nvPicPr>
            <p:cNvPr id="191" name="Picture 30" descr="ريال6"/>
            <p:cNvPicPr/>
            <p:nvPr/>
          </p:nvPicPr>
          <p:blipFill>
            <a:blip r:embed="rId2"/>
            <a:stretch/>
          </p:blipFill>
          <p:spPr>
            <a:xfrm rot="19629600">
              <a:off x="2057040" y="685440"/>
              <a:ext cx="175860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4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2526840" y="779400"/>
              <a:ext cx="17582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5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3011400" y="814320"/>
              <a:ext cx="17582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3495960" y="847080"/>
              <a:ext cx="17586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4-10f"/>
            <p:cNvPicPr/>
            <p:nvPr/>
          </p:nvPicPr>
          <p:blipFill>
            <a:blip r:embed="rId6"/>
            <a:stretch/>
          </p:blipFill>
          <p:spPr>
            <a:xfrm rot="19625400">
              <a:off x="3977280" y="801720"/>
              <a:ext cx="183888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8" descr="4-10f"/>
            <p:cNvPicPr/>
            <p:nvPr/>
          </p:nvPicPr>
          <p:blipFill>
            <a:blip r:embed="rId7"/>
            <a:stretch/>
          </p:blipFill>
          <p:spPr>
            <a:xfrm rot="19625400">
              <a:off x="4533480" y="753840"/>
              <a:ext cx="18388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9" descr="4-10f"/>
            <p:cNvPicPr/>
            <p:nvPr/>
          </p:nvPicPr>
          <p:blipFill>
            <a:blip r:embed="rId8"/>
            <a:stretch/>
          </p:blipFill>
          <p:spPr>
            <a:xfrm rot="19625400">
              <a:off x="5097960" y="780480"/>
              <a:ext cx="18385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43"/>
          <p:cNvGrpSpPr/>
          <p:nvPr/>
        </p:nvGrpSpPr>
        <p:grpSpPr>
          <a:xfrm>
            <a:off x="304920" y="2133720"/>
            <a:ext cx="3885840" cy="2894760"/>
            <a:chOff x="304920" y="2133720"/>
            <a:chExt cx="3885840" cy="2894760"/>
          </a:xfrm>
        </p:grpSpPr>
        <p:pic>
          <p:nvPicPr>
            <p:cNvPr id="199" name="Picture 44" descr="car"/>
            <p:cNvPicPr/>
            <p:nvPr/>
          </p:nvPicPr>
          <p:blipFill>
            <a:blip r:embed="rId9"/>
            <a:srcRect l="5971" t="9100" r="4475" b="8328"/>
            <a:stretch/>
          </p:blipFill>
          <p:spPr>
            <a:xfrm>
              <a:off x="304920" y="2828880"/>
              <a:ext cx="2428560" cy="21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45"/>
            <p:cNvSpPr/>
            <p:nvPr/>
          </p:nvSpPr>
          <p:spPr>
            <a:xfrm>
              <a:off x="3025080" y="2133720"/>
              <a:ext cx="1165680" cy="1112040"/>
            </a:xfrm>
            <a:prstGeom prst="cloudCallout">
              <a:avLst>
                <a:gd name="adj1" fmla="val -79861"/>
                <a:gd name="adj2" fmla="val 86981"/>
              </a:avLst>
            </a:prstGeom>
            <a:solidFill>
              <a:srgbClr val="ff3300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ري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9"/>
          <p:cNvSpPr/>
          <p:nvPr/>
        </p:nvSpPr>
        <p:spPr>
          <a:xfrm>
            <a:off x="5949000" y="4267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1523880" y="5791320"/>
            <a:ext cx="152424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نع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34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4876920" y="4191120"/>
            <a:ext cx="2895480" cy="121896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4114800" y="5638680"/>
            <a:ext cx="3933720" cy="90324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7471080" y="484920"/>
            <a:ext cx="1238760" cy="1664280"/>
            <a:chOff x="7471080" y="484920"/>
            <a:chExt cx="1238760" cy="1664280"/>
          </a:xfrm>
        </p:grpSpPr>
        <p:pic>
          <p:nvPicPr>
            <p:cNvPr id="206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543440" y="53352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 rot="592800">
              <a:off x="7774200" y="7948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"/>
          <p:cNvGrpSpPr/>
          <p:nvPr/>
        </p:nvGrpSpPr>
        <p:grpSpPr>
          <a:xfrm>
            <a:off x="1686240" y="421920"/>
            <a:ext cx="5095800" cy="1855440"/>
            <a:chOff x="1686240" y="421920"/>
            <a:chExt cx="5095800" cy="1855440"/>
          </a:xfrm>
        </p:grpSpPr>
        <p:pic>
          <p:nvPicPr>
            <p:cNvPr id="209" name="Picture 10" descr="ريال6"/>
            <p:cNvPicPr/>
            <p:nvPr/>
          </p:nvPicPr>
          <p:blipFill>
            <a:blip r:embed="rId2"/>
            <a:stretch/>
          </p:blipFill>
          <p:spPr>
            <a:xfrm rot="19629600">
              <a:off x="1752480" y="83772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" descr="ريال6"/>
            <p:cNvPicPr/>
            <p:nvPr/>
          </p:nvPicPr>
          <p:blipFill>
            <a:blip r:embed="rId3"/>
            <a:stretch/>
          </p:blipFill>
          <p:spPr>
            <a:xfrm rot="19629600">
              <a:off x="2209680" y="914040"/>
              <a:ext cx="17589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ريال6"/>
            <p:cNvPicPr/>
            <p:nvPr/>
          </p:nvPicPr>
          <p:blipFill>
            <a:blip r:embed="rId4"/>
            <a:stretch/>
          </p:blipFill>
          <p:spPr>
            <a:xfrm rot="19629600">
              <a:off x="2720880" y="995040"/>
              <a:ext cx="17589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3199680" y="106632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4-10f"/>
            <p:cNvPicPr/>
            <p:nvPr/>
          </p:nvPicPr>
          <p:blipFill>
            <a:blip r:embed="rId6"/>
            <a:stretch/>
          </p:blipFill>
          <p:spPr>
            <a:xfrm rot="19625400">
              <a:off x="3749040" y="102996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4-10f"/>
            <p:cNvPicPr/>
            <p:nvPr/>
          </p:nvPicPr>
          <p:blipFill>
            <a:blip r:embed="rId7"/>
            <a:stretch/>
          </p:blipFill>
          <p:spPr>
            <a:xfrm rot="19625400">
              <a:off x="4305240" y="98244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6" descr="4-10f"/>
            <p:cNvPicPr/>
            <p:nvPr/>
          </p:nvPicPr>
          <p:blipFill>
            <a:blip r:embed="rId8"/>
            <a:stretch/>
          </p:blipFill>
          <p:spPr>
            <a:xfrm rot="19625400">
              <a:off x="4870080" y="1009440"/>
              <a:ext cx="183852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7"/>
          <p:cNvGrpSpPr/>
          <p:nvPr/>
        </p:nvGrpSpPr>
        <p:grpSpPr>
          <a:xfrm>
            <a:off x="533520" y="2438280"/>
            <a:ext cx="3123360" cy="3123720"/>
            <a:chOff x="533520" y="2438280"/>
            <a:chExt cx="3123360" cy="3123720"/>
          </a:xfrm>
        </p:grpSpPr>
        <p:pic>
          <p:nvPicPr>
            <p:cNvPr id="217" name="Picture 18" descr="cartoon_elephant_st5"/>
            <p:cNvPicPr/>
            <p:nvPr/>
          </p:nvPicPr>
          <p:blipFill>
            <a:blip r:embed="rId9"/>
            <a:stretch/>
          </p:blipFill>
          <p:spPr>
            <a:xfrm>
              <a:off x="533520" y="2928240"/>
              <a:ext cx="170640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AutoShape 19"/>
            <p:cNvSpPr/>
            <p:nvPr/>
          </p:nvSpPr>
          <p:spPr>
            <a:xfrm>
              <a:off x="2448000" y="2438280"/>
              <a:ext cx="1208880" cy="979560"/>
            </a:xfrm>
            <a:prstGeom prst="cloudCallout">
              <a:avLst>
                <a:gd name="adj1" fmla="val -68750"/>
                <a:gd name="adj2" fmla="val 95050"/>
              </a:avLst>
            </a:prstGeom>
            <a:solidFill>
              <a:srgbClr val="0099ff"/>
            </a:solidFill>
            <a:ln w="5724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ري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0"/>
          <p:cNvSpPr/>
          <p:nvPr/>
        </p:nvSpPr>
        <p:spPr>
          <a:xfrm>
            <a:off x="5949000" y="43434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2286000" y="5791320"/>
            <a:ext cx="152388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00"/>
                </a:solidFill>
                <a:latin typeface="Arial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ched_gemvanish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2971800" y="1447920"/>
            <a:ext cx="5235480" cy="3527280"/>
          </a:xfrm>
          <a:prstGeom prst="diamond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ع سمير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ورقات 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ئة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ريال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وورقة واحدة من فئ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ريال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فهل يستطيع أن يشت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حذاء ثمنه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ريالاً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4532400" y="152280"/>
            <a:ext cx="4459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39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أحل المسألة 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7471080" y="865800"/>
            <a:ext cx="1238760" cy="1664280"/>
            <a:chOff x="7471080" y="865800"/>
            <a:chExt cx="1238760" cy="1664280"/>
          </a:xfrm>
        </p:grpSpPr>
        <p:pic>
          <p:nvPicPr>
            <p:cNvPr id="224" name="Picture 4" descr="bell"/>
            <p:cNvPicPr/>
            <p:nvPr/>
          </p:nvPicPr>
          <p:blipFill>
            <a:blip r:embed="rId3"/>
            <a:stretch/>
          </p:blipFill>
          <p:spPr>
            <a:xfrm rot="21270000">
              <a:off x="7543440" y="91440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6"/>
            <p:cNvSpPr/>
            <p:nvPr/>
          </p:nvSpPr>
          <p:spPr>
            <a:xfrm rot="592800">
              <a:off x="7688160" y="107712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7"/>
          <p:cNvSpPr/>
          <p:nvPr/>
        </p:nvSpPr>
        <p:spPr>
          <a:xfrm>
            <a:off x="990720" y="4648320"/>
            <a:ext cx="4267080" cy="1523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مع سمير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 ويكفى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شراء حذاء ثمنه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0028%20-%20%D8%BA%D9%84%D9%82%20%D8%A7%D9%84%D9%88%D9%8A%D9%86%D8%AF%D9%88%D8%B2.wav"/>
      </p:stSnd>
    </p:sndAc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ched_gapbonu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CKMC132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2658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 rot="20327400">
            <a:off x="3556080" y="4446720"/>
            <a:ext cx="323676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cs"/>
              </a:rPr>
              <a:t>5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cs"/>
              </a:rPr>
              <a:t>استعمال النقو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AMPMORT"/>
          <p:cNvPicPr/>
          <p:nvPr/>
        </p:nvPicPr>
        <p:blipFill>
          <a:blip r:embed="rId1"/>
          <a:stretch/>
        </p:blipFill>
        <p:spPr>
          <a:xfrm>
            <a:off x="533520" y="914400"/>
            <a:ext cx="6089400" cy="17431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/>
          <p:cNvSpPr/>
          <p:nvPr/>
        </p:nvSpPr>
        <p:spPr>
          <a:xfrm>
            <a:off x="2590920" y="3962520"/>
            <a:ext cx="3047760" cy="2590560"/>
          </a:xfrm>
          <a:prstGeom prst="flowChartCollate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00"/>
            </a:solidFill>
            <a:miter/>
          </a:ln>
          <a:effectLst>
            <a:outerShdw dist="153753" dir="2700000" blurRad="0" rotWithShape="0">
              <a:srgbClr val="8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ُقَارِنُ قيم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نُّقود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بِأَسْعا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السِّلَع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362320" y="1447920"/>
            <a:ext cx="2305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cs"/>
              </a:rPr>
              <a:t>فِكْرَةُ الدَّرسْ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5796000" y="26028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+mn-cs"/>
              </a:rPr>
              <a:t>أستعد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5" name="0028%20-%20%D8%BA%D9%84%D9%82%20%D8%A7%D9%84%D9%88%D9%8A%D9%86%D8%AF%D9%88%D8%B2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9"/>
          <p:cNvSpPr/>
          <p:nvPr/>
        </p:nvSpPr>
        <p:spPr>
          <a:xfrm>
            <a:off x="838080" y="304920"/>
            <a:ext cx="7620120" cy="914400"/>
          </a:xfrm>
          <a:custGeom>
            <a:avLst/>
            <a:gdLst>
              <a:gd name="textAreaLeft" fmla="*/ 0 w 7620120"/>
              <a:gd name="textAreaRight" fmla="*/ 7620480 w 7620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Calibri"/>
              </a:rPr>
              <a:t>أَعُدُّ النُّقُودَ لأَعْرِفَ هَلْ ما مَعِي مِنْ نُقودٍ يَكْفِي لِشِرَاءِ الكرة أَوْ ل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105520" y="1523880"/>
            <a:ext cx="3743280" cy="914400"/>
          </a:xfrm>
          <a:prstGeom prst="plus">
            <a:avLst>
              <a:gd name="adj" fmla="val 25000"/>
            </a:avLst>
          </a:prstGeom>
          <a:solidFill>
            <a:srgbClr val="eda3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ما مَجْموعُ هذِهِ النُّقودِ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5105520" y="5715000"/>
            <a:ext cx="3743280" cy="9144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هَلْ تَكْفِي هذِهِ النُّقودُ لِشِراء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الْكُرَةِ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590920" y="5715000"/>
            <a:ext cx="1523880" cy="863640"/>
          </a:xfrm>
          <a:prstGeom prst="flowChartAlternateProcess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Calibri"/>
              </a:rPr>
              <a:t>نعَم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ar-SA" sz="2800" spc="-1" strike="noStrike">
                <a:solidFill>
                  <a:srgbClr val="ffff00"/>
                </a:solidFill>
                <a:latin typeface="Calibri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6"/>
          <p:cNvGrpSpPr/>
          <p:nvPr/>
        </p:nvGrpSpPr>
        <p:grpSpPr>
          <a:xfrm>
            <a:off x="0" y="1371600"/>
            <a:ext cx="2819520" cy="3504960"/>
            <a:chOff x="0" y="1371600"/>
            <a:chExt cx="2819520" cy="3504960"/>
          </a:xfrm>
        </p:grpSpPr>
        <p:pic>
          <p:nvPicPr>
            <p:cNvPr id="97" name="Picture 4" descr=""/>
            <p:cNvPicPr/>
            <p:nvPr/>
          </p:nvPicPr>
          <p:blipFill>
            <a:blip r:embed="rId1"/>
            <a:srcRect l="68892" t="5617" r="4457" b="0"/>
            <a:stretch/>
          </p:blipFill>
          <p:spPr>
            <a:xfrm>
              <a:off x="380880" y="1371600"/>
              <a:ext cx="170208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AutoShape 13"/>
            <p:cNvSpPr/>
            <p:nvPr/>
          </p:nvSpPr>
          <p:spPr>
            <a:xfrm>
              <a:off x="0" y="3276360"/>
              <a:ext cx="2819520" cy="1600200"/>
            </a:xfrm>
            <a:prstGeom prst="pie">
              <a:avLst/>
            </a:prstGeom>
            <a:solidFill>
              <a:srgbClr val="2d6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ثمَنَ الكْرُةَ </a:t>
              </a: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17</a:t>
              </a: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 ريِ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6" descr="BDRLC086"/>
          <p:cNvPicPr/>
          <p:nvPr/>
        </p:nvPicPr>
        <p:blipFill>
          <a:blip r:embed="rId2"/>
          <a:stretch/>
        </p:blipFill>
        <p:spPr>
          <a:xfrm>
            <a:off x="2971800" y="5715000"/>
            <a:ext cx="83196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/>
          <p:cNvSpPr/>
          <p:nvPr/>
        </p:nvSpPr>
        <p:spPr>
          <a:xfrm>
            <a:off x="3581280" y="3733920"/>
            <a:ext cx="990720" cy="91440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17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ريال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ريال6"/>
          <p:cNvPicPr/>
          <p:nvPr/>
        </p:nvPicPr>
        <p:blipFill>
          <a:blip r:embed="rId3"/>
          <a:stretch/>
        </p:blipFill>
        <p:spPr>
          <a:xfrm>
            <a:off x="3263760" y="2832120"/>
            <a:ext cx="1395720" cy="74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ريال6"/>
          <p:cNvPicPr/>
          <p:nvPr/>
        </p:nvPicPr>
        <p:blipFill>
          <a:blip r:embed="rId4"/>
          <a:stretch/>
        </p:blipFill>
        <p:spPr>
          <a:xfrm>
            <a:off x="4684680" y="2832120"/>
            <a:ext cx="1395360" cy="74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5 ريال سعودي"/>
          <p:cNvPicPr/>
          <p:nvPr/>
        </p:nvPicPr>
        <p:blipFill>
          <a:blip r:embed="rId5"/>
          <a:stretch/>
        </p:blipFill>
        <p:spPr>
          <a:xfrm>
            <a:off x="6172200" y="2819520"/>
            <a:ext cx="1471680" cy="76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4-10f"/>
          <p:cNvPicPr/>
          <p:nvPr/>
        </p:nvPicPr>
        <p:blipFill>
          <a:blip r:embed="rId6"/>
          <a:stretch/>
        </p:blipFill>
        <p:spPr>
          <a:xfrm>
            <a:off x="7696080" y="2819520"/>
            <a:ext cx="1354320" cy="739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0028%20-%20%D8%BA%D9%84%D9%82%20%D8%A7%D9%84%D9%88%D9%8A%D9%86%D8%AF%D9%88%D8%B2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UND5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5410080" y="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413000"/>
          <a:ext cx="7848720" cy="4987800"/>
        </p:xfrm>
        <a:graphic>
          <a:graphicData uri="http://schemas.openxmlformats.org/drawingml/2006/table">
            <a:tbl>
              <a:tblPr/>
              <a:tblGrid>
                <a:gridCol w="2133720"/>
                <a:gridCol w="3504960"/>
                <a:gridCol w="221004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هَلْ تَكْفِي هذِهِ النُّقودُ</a:t>
                      </a:r>
                      <a:r>
                        <a:rPr b="1" lang="ar-EG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أَنْظُرُ</a:t>
                      </a: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إِلَى</a:t>
                      </a: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9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</a:t>
                      </a: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ل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</a:tr>
              <a:tr h="159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</a:t>
                      </a: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ل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cc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07" name="Picture 69" descr=""/>
          <p:cNvPicPr/>
          <p:nvPr/>
        </p:nvPicPr>
        <p:blipFill>
          <a:blip r:embed="rId3"/>
          <a:srcRect l="70356" t="29411" r="816" b="36278"/>
          <a:stretch/>
        </p:blipFill>
        <p:spPr>
          <a:xfrm>
            <a:off x="6172200" y="3352680"/>
            <a:ext cx="2028960" cy="1271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8" name="Picture 70" descr=""/>
          <p:cNvPicPr/>
          <p:nvPr/>
        </p:nvPicPr>
        <p:blipFill>
          <a:blip r:embed="rId4"/>
          <a:srcRect l="70356" t="63734" r="0" b="1943"/>
          <a:stretch/>
        </p:blipFill>
        <p:spPr>
          <a:xfrm>
            <a:off x="6324480" y="4952880"/>
            <a:ext cx="1676520" cy="125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9" name="Picture 26" descr="BDRLC086"/>
          <p:cNvPicPr/>
          <p:nvPr/>
        </p:nvPicPr>
        <p:blipFill>
          <a:blip r:embed="rId5"/>
          <a:stretch/>
        </p:blipFill>
        <p:spPr>
          <a:xfrm>
            <a:off x="1600200" y="3505320"/>
            <a:ext cx="685800" cy="83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BDRLC086"/>
          <p:cNvPicPr/>
          <p:nvPr/>
        </p:nvPicPr>
        <p:blipFill>
          <a:blip r:embed="rId6"/>
          <a:stretch/>
        </p:blipFill>
        <p:spPr>
          <a:xfrm>
            <a:off x="609480" y="5105520"/>
            <a:ext cx="685800" cy="99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ريال6"/>
          <p:cNvPicPr/>
          <p:nvPr/>
        </p:nvPicPr>
        <p:blipFill>
          <a:blip r:embed="rId7"/>
          <a:stretch/>
        </p:blipFill>
        <p:spPr>
          <a:xfrm rot="19846800">
            <a:off x="2819520" y="3352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ريال6"/>
          <p:cNvPicPr/>
          <p:nvPr/>
        </p:nvPicPr>
        <p:blipFill>
          <a:blip r:embed="rId8"/>
          <a:stretch/>
        </p:blipFill>
        <p:spPr>
          <a:xfrm rot="19846800">
            <a:off x="3200400" y="3428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8" descr="5 ريال سعودي"/>
          <p:cNvPicPr/>
          <p:nvPr/>
        </p:nvPicPr>
        <p:blipFill>
          <a:blip r:embed="rId9"/>
          <a:stretch/>
        </p:blipFill>
        <p:spPr>
          <a:xfrm rot="19841400">
            <a:off x="3505320" y="34286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1" descr="4-10f"/>
          <p:cNvPicPr/>
          <p:nvPr/>
        </p:nvPicPr>
        <p:blipFill>
          <a:blip r:embed="rId10"/>
          <a:stretch/>
        </p:blipFill>
        <p:spPr>
          <a:xfrm rot="19847400">
            <a:off x="3886200" y="35049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5" descr="4-10f"/>
          <p:cNvPicPr/>
          <p:nvPr/>
        </p:nvPicPr>
        <p:blipFill>
          <a:blip r:embed="rId11"/>
          <a:stretch/>
        </p:blipFill>
        <p:spPr>
          <a:xfrm rot="19847400">
            <a:off x="4191120" y="35049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1" descr="ريال6"/>
          <p:cNvPicPr/>
          <p:nvPr/>
        </p:nvPicPr>
        <p:blipFill>
          <a:blip r:embed="rId12"/>
          <a:stretch/>
        </p:blipFill>
        <p:spPr>
          <a:xfrm rot="19846800">
            <a:off x="2535120" y="502884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6" descr="ريال6"/>
          <p:cNvPicPr/>
          <p:nvPr/>
        </p:nvPicPr>
        <p:blipFill>
          <a:blip r:embed="rId13"/>
          <a:stretch/>
        </p:blipFill>
        <p:spPr>
          <a:xfrm rot="19846800">
            <a:off x="2819520" y="50288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7" descr="ريال6"/>
          <p:cNvPicPr/>
          <p:nvPr/>
        </p:nvPicPr>
        <p:blipFill>
          <a:blip r:embed="rId14"/>
          <a:stretch/>
        </p:blipFill>
        <p:spPr>
          <a:xfrm rot="19846800">
            <a:off x="3200400" y="51051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8" descr="5 ريال سعودي"/>
          <p:cNvPicPr/>
          <p:nvPr/>
        </p:nvPicPr>
        <p:blipFill>
          <a:blip r:embed="rId15"/>
          <a:stretch/>
        </p:blipFill>
        <p:spPr>
          <a:xfrm rot="19841400">
            <a:off x="3505320" y="51051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4-10f"/>
          <p:cNvPicPr/>
          <p:nvPr/>
        </p:nvPicPr>
        <p:blipFill>
          <a:blip r:embed="rId16"/>
          <a:stretch/>
        </p:blipFill>
        <p:spPr>
          <a:xfrm rot="19847400">
            <a:off x="3886200" y="51811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4-10f"/>
          <p:cNvPicPr/>
          <p:nvPr/>
        </p:nvPicPr>
        <p:blipFill>
          <a:blip r:embed="rId17"/>
          <a:stretch/>
        </p:blipFill>
        <p:spPr>
          <a:xfrm rot="19847400">
            <a:off x="4191120" y="5181120"/>
            <a:ext cx="1828800" cy="847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8" name="0028%20-%20%D8%BA%D9%84%D9%82%20%D8%A7%D9%84%D9%88%D9%8A%D9%86%D8%AF%D9%88%D8%B2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9%85%D9%88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6400800" y="0"/>
            <a:ext cx="21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cc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cc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Times New Roman"/>
              </a:rPr>
              <a:t>أتحد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cc"/>
                  </a:gs>
                  <a:gs pos="100000">
                    <a:srgbClr val="cc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 rot="10677000">
            <a:off x="685440" y="1444320"/>
            <a:ext cx="6400800" cy="2592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مَعَ مَنال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أَوْراقٍ مِنْ فِئَةِ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10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يالاتٍ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وَمَعَ مَشَاعِل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أَوْراقٍ مِن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فئِة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يالاتٍ. </a:t>
            </a:r>
            <a:r>
              <a:rPr b="1" lang="ar-EG" sz="2800" spc="-1" strike="noStrike">
                <a:solidFill>
                  <a:srgbClr val="000099"/>
                </a:solidFill>
                <a:latin typeface="Calibri"/>
              </a:rPr>
              <a:t>أ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ي</a:t>
            </a:r>
            <a:r>
              <a:rPr b="1" lang="ar-EG" sz="2800" spc="-1" strike="noStrike">
                <a:solidFill>
                  <a:srgbClr val="000099"/>
                </a:solidFill>
                <a:latin typeface="Calibri"/>
              </a:rPr>
              <a:t> منه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أَنْ تَشْتَرِيَ لُعْبَةً ثَمَنُها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30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ِيا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438280" y="4343400"/>
            <a:ext cx="4648320" cy="19810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مع منال 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40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 ومع مشاع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 واللعبة ثمنها 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إذن منال هي التي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تستطيع شراءها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28%20-%20%D8%BA%D9%84%D9%82%20%D8%A7%D9%84%D9%88%D9%8A%D9%86%D8%AF%D9%88%D8%B2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4648320" y="228600"/>
            <a:ext cx="408276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1400">
                  <a:solidFill>
                    <a:srgbClr val="99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41400">
                <a:solidFill>
                  <a:srgbClr val="99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cs"/>
              <a:ea typeface="+mn-c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173240"/>
          <a:ext cx="8088120" cy="5688000"/>
        </p:xfrm>
        <a:graphic>
          <a:graphicData uri="http://schemas.openxmlformats.org/drawingml/2006/table">
            <a:tbl>
              <a:tblPr/>
              <a:tblGrid>
                <a:gridCol w="2057400"/>
                <a:gridCol w="3535200"/>
                <a:gridCol w="2495520"/>
              </a:tblGrid>
              <a:tr h="31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هَلْ تَكْفِي هذِهِ النُّقود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َنْظُرُ إِلَى 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71" descr=""/>
          <p:cNvPicPr/>
          <p:nvPr/>
        </p:nvPicPr>
        <p:blipFill>
          <a:blip r:embed="rId1"/>
          <a:srcRect l="70643" t="35817" r="0" b="43532"/>
          <a:stretch/>
        </p:blipFill>
        <p:spPr>
          <a:xfrm>
            <a:off x="6156360" y="5229360"/>
            <a:ext cx="1846080" cy="136836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128" name="Picture 72" descr=""/>
          <p:cNvPicPr/>
          <p:nvPr/>
        </p:nvPicPr>
        <p:blipFill>
          <a:blip r:embed="rId2"/>
          <a:srcRect l="72160" t="13487" r="0" b="65889"/>
          <a:stretch/>
        </p:blipFill>
        <p:spPr>
          <a:xfrm>
            <a:off x="6156360" y="3429000"/>
            <a:ext cx="1751040" cy="136692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129" name="Picture 26" descr="BDRLC086"/>
          <p:cNvPicPr/>
          <p:nvPr/>
        </p:nvPicPr>
        <p:blipFill>
          <a:blip r:embed="rId3"/>
          <a:stretch/>
        </p:blipFill>
        <p:spPr>
          <a:xfrm>
            <a:off x="1600200" y="3733920"/>
            <a:ext cx="762120" cy="96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BDRLC086"/>
          <p:cNvPicPr/>
          <p:nvPr/>
        </p:nvPicPr>
        <p:blipFill>
          <a:blip r:embed="rId4"/>
          <a:stretch/>
        </p:blipFill>
        <p:spPr>
          <a:xfrm>
            <a:off x="304920" y="5486400"/>
            <a:ext cx="685800" cy="923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ريال6"/>
          <p:cNvPicPr/>
          <p:nvPr/>
        </p:nvPicPr>
        <p:blipFill>
          <a:blip r:embed="rId5"/>
          <a:stretch/>
        </p:blipFill>
        <p:spPr>
          <a:xfrm rot="19846800">
            <a:off x="2459160" y="37335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7" descr="5 ريال سعودي"/>
          <p:cNvPicPr/>
          <p:nvPr/>
        </p:nvPicPr>
        <p:blipFill>
          <a:blip r:embed="rId6"/>
          <a:stretch/>
        </p:blipFill>
        <p:spPr>
          <a:xfrm rot="19841400">
            <a:off x="276552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5 ريال سعودي"/>
          <p:cNvPicPr/>
          <p:nvPr/>
        </p:nvPicPr>
        <p:blipFill>
          <a:blip r:embed="rId7"/>
          <a:stretch/>
        </p:blipFill>
        <p:spPr>
          <a:xfrm rot="19841400">
            <a:off x="312408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5 ريال سعودي"/>
          <p:cNvPicPr/>
          <p:nvPr/>
        </p:nvPicPr>
        <p:blipFill>
          <a:blip r:embed="rId8"/>
          <a:stretch/>
        </p:blipFill>
        <p:spPr>
          <a:xfrm rot="19841400">
            <a:off x="342900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4-10f"/>
          <p:cNvPicPr/>
          <p:nvPr/>
        </p:nvPicPr>
        <p:blipFill>
          <a:blip r:embed="rId9"/>
          <a:stretch/>
        </p:blipFill>
        <p:spPr>
          <a:xfrm rot="19847400">
            <a:off x="3809880" y="38095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4-10f"/>
          <p:cNvPicPr/>
          <p:nvPr/>
        </p:nvPicPr>
        <p:blipFill>
          <a:blip r:embed="rId10"/>
          <a:stretch/>
        </p:blipFill>
        <p:spPr>
          <a:xfrm rot="19847400">
            <a:off x="4114800" y="38095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ريال6"/>
          <p:cNvPicPr/>
          <p:nvPr/>
        </p:nvPicPr>
        <p:blipFill>
          <a:blip r:embed="rId11"/>
          <a:stretch/>
        </p:blipFill>
        <p:spPr>
          <a:xfrm rot="19846800">
            <a:off x="2286000" y="55623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0" descr="ريال6"/>
          <p:cNvPicPr/>
          <p:nvPr/>
        </p:nvPicPr>
        <p:blipFill>
          <a:blip r:embed="rId12"/>
          <a:stretch/>
        </p:blipFill>
        <p:spPr>
          <a:xfrm rot="19846800">
            <a:off x="2590920" y="5638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ريال6"/>
          <p:cNvPicPr/>
          <p:nvPr/>
        </p:nvPicPr>
        <p:blipFill>
          <a:blip r:embed="rId13"/>
          <a:stretch/>
        </p:blipFill>
        <p:spPr>
          <a:xfrm rot="19846800">
            <a:off x="2895480" y="563832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ريال6"/>
          <p:cNvPicPr/>
          <p:nvPr/>
        </p:nvPicPr>
        <p:blipFill>
          <a:blip r:embed="rId14"/>
          <a:stretch/>
        </p:blipFill>
        <p:spPr>
          <a:xfrm rot="19846800">
            <a:off x="3200400" y="5638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ريال6"/>
          <p:cNvPicPr/>
          <p:nvPr/>
        </p:nvPicPr>
        <p:blipFill>
          <a:blip r:embed="rId15"/>
          <a:stretch/>
        </p:blipFill>
        <p:spPr>
          <a:xfrm rot="19846800">
            <a:off x="3505320" y="5714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ريال6"/>
          <p:cNvPicPr/>
          <p:nvPr/>
        </p:nvPicPr>
        <p:blipFill>
          <a:blip r:embed="rId16"/>
          <a:stretch/>
        </p:blipFill>
        <p:spPr>
          <a:xfrm rot="19846800">
            <a:off x="3733920" y="5714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5 ريال سعودي"/>
          <p:cNvPicPr/>
          <p:nvPr/>
        </p:nvPicPr>
        <p:blipFill>
          <a:blip r:embed="rId17"/>
          <a:stretch/>
        </p:blipFill>
        <p:spPr>
          <a:xfrm rot="19841400">
            <a:off x="3962520" y="5638320"/>
            <a:ext cx="1987560" cy="87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8" name="0028%20-%20%D8%BA%D9%84%D9%82%20%D8%A7%D9%84%D9%88%D9%8A%D9%86%D8%AF%D9%88%D8%B2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04640"/>
          <a:ext cx="8153640" cy="6231240"/>
        </p:xfrm>
        <a:graphic>
          <a:graphicData uri="http://schemas.openxmlformats.org/drawingml/2006/table">
            <a:tbl>
              <a:tblPr/>
              <a:tblGrid>
                <a:gridCol w="2210040"/>
                <a:gridCol w="3504960"/>
                <a:gridCol w="2438640"/>
              </a:tblGrid>
              <a:tr h="26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َلْ تَكْفِي هذِهِ النُّقود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أَنْظُرُ إِلَى 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</a:t>
                      </a: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32" descr=""/>
          <p:cNvPicPr/>
          <p:nvPr/>
        </p:nvPicPr>
        <p:blipFill>
          <a:blip r:embed="rId1"/>
          <a:srcRect l="70643" t="57572" r="0" b="21804"/>
          <a:stretch/>
        </p:blipFill>
        <p:spPr>
          <a:xfrm>
            <a:off x="6172200" y="2666880"/>
            <a:ext cx="2216160" cy="1754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6" name="Picture 31" descr=""/>
          <p:cNvPicPr/>
          <p:nvPr/>
        </p:nvPicPr>
        <p:blipFill>
          <a:blip r:embed="rId2"/>
          <a:srcRect l="70614" t="79306" r="0" b="0"/>
          <a:stretch/>
        </p:blipFill>
        <p:spPr>
          <a:xfrm>
            <a:off x="6248520" y="4800600"/>
            <a:ext cx="20764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7" name="Picture 26" descr="BDRLC086"/>
          <p:cNvPicPr/>
          <p:nvPr/>
        </p:nvPicPr>
        <p:blipFill>
          <a:blip r:embed="rId3"/>
          <a:stretch/>
        </p:blipFill>
        <p:spPr>
          <a:xfrm>
            <a:off x="1676520" y="502920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BDRLC086"/>
          <p:cNvPicPr/>
          <p:nvPr/>
        </p:nvPicPr>
        <p:blipFill>
          <a:blip r:embed="rId4"/>
          <a:stretch/>
        </p:blipFill>
        <p:spPr>
          <a:xfrm>
            <a:off x="304920" y="29718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ريال6"/>
          <p:cNvPicPr/>
          <p:nvPr/>
        </p:nvPicPr>
        <p:blipFill>
          <a:blip r:embed="rId5"/>
          <a:stretch/>
        </p:blipFill>
        <p:spPr>
          <a:xfrm rot="19846800">
            <a:off x="2666880" y="312372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5 ريال سعودي"/>
          <p:cNvPicPr/>
          <p:nvPr/>
        </p:nvPicPr>
        <p:blipFill>
          <a:blip r:embed="rId6"/>
          <a:stretch/>
        </p:blipFill>
        <p:spPr>
          <a:xfrm rot="19841400">
            <a:off x="3429000" y="312372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4-10f"/>
          <p:cNvPicPr/>
          <p:nvPr/>
        </p:nvPicPr>
        <p:blipFill>
          <a:blip r:embed="rId7"/>
          <a:stretch/>
        </p:blipFill>
        <p:spPr>
          <a:xfrm rot="19847400">
            <a:off x="4094280" y="320004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3" descr="ريال6"/>
          <p:cNvPicPr/>
          <p:nvPr/>
        </p:nvPicPr>
        <p:blipFill>
          <a:blip r:embed="rId8"/>
          <a:stretch/>
        </p:blipFill>
        <p:spPr>
          <a:xfrm rot="19846800">
            <a:off x="2590920" y="50288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4" descr="5 ريال سعودي"/>
          <p:cNvPicPr/>
          <p:nvPr/>
        </p:nvPicPr>
        <p:blipFill>
          <a:blip r:embed="rId9"/>
          <a:stretch/>
        </p:blipFill>
        <p:spPr>
          <a:xfrm rot="19841400">
            <a:off x="2895480" y="50288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5 ريال سعودي"/>
          <p:cNvPicPr/>
          <p:nvPr/>
        </p:nvPicPr>
        <p:blipFill>
          <a:blip r:embed="rId10"/>
          <a:stretch/>
        </p:blipFill>
        <p:spPr>
          <a:xfrm rot="19841400">
            <a:off x="3200400" y="50288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5" descr="4-10f"/>
          <p:cNvPicPr/>
          <p:nvPr/>
        </p:nvPicPr>
        <p:blipFill>
          <a:blip r:embed="rId11"/>
          <a:stretch/>
        </p:blipFill>
        <p:spPr>
          <a:xfrm rot="19847400">
            <a:off x="3505320" y="51051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7" descr="4-10f"/>
          <p:cNvPicPr/>
          <p:nvPr/>
        </p:nvPicPr>
        <p:blipFill>
          <a:blip r:embed="rId12"/>
          <a:stretch/>
        </p:blipFill>
        <p:spPr>
          <a:xfrm rot="19847400">
            <a:off x="3886200" y="5105160"/>
            <a:ext cx="1828800" cy="847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3" name="0028%20-%20%D8%BA%D9%84%D9%82%20%D8%A7%D9%84%D9%88%D9%8A%D9%86%D8%AF%D9%88%D8%B2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on%20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5105520" y="22860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latin typeface="+mn-cs"/>
              </a:rPr>
              <a:t>أحل المسألة 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latin typeface="+mn-cs"/>
              <a:ea typeface="+mn-cs"/>
            </a:endParaRPr>
          </a:p>
        </p:txBody>
      </p:sp>
      <p:sp>
        <p:nvSpPr>
          <p:cNvPr id="158" name="WordArt 6"/>
          <p:cNvSpPr txBox="1"/>
          <p:nvPr/>
        </p:nvSpPr>
        <p:spPr>
          <a:xfrm rot="838200">
            <a:off x="4227480" y="1471680"/>
            <a:ext cx="3592440" cy="19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3399ff"/>
                    </a:gs>
                  </a:gsLst>
                  <a:lin ang="4560000"/>
                </a:gradFill>
                <a:effectLst>
                  <a:outerShdw dist="17819" dir="2700000" blurRad="0" rotWithShape="0">
                    <a:srgbClr val="99ff33"/>
                  </a:outerShdw>
                </a:effectLst>
                <a:latin typeface="+mn-cs"/>
              </a:rPr>
              <a:t>8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3399ff"/>
                    </a:gs>
                  </a:gsLst>
                  <a:lin ang="4560000"/>
                </a:gradFill>
                <a:effectLst>
                  <a:outerShdw dist="17819" dir="2700000" blurRad="0" rotWithShape="0">
                    <a:srgbClr val="99ff33"/>
                  </a:outerShdw>
                </a:effectLst>
                <a:latin typeface="+mn-cs"/>
              </a:rPr>
              <a:t>التَّفْكِيرُ الْمَنْطِقِيّ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3399ff"/>
                  </a:gs>
                </a:gsLst>
                <a:lin ang="4560000"/>
              </a:gradFill>
              <a:effectLst>
                <a:outerShdw dist="17819" dir="2700000" blurRad="0" rotWithShape="0">
                  <a:srgbClr val="99ff33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733920" y="3124080"/>
            <a:ext cx="4752720" cy="1828800"/>
          </a:xfrm>
          <a:prstGeom prst="flowChartPunchedCard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َعَ خالِدٍ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َوْراقٍ نَقْدِيَّةٍ مِنَ الفِئَةِ نَفْسِ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َجْمُوعُها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رِيا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ا فِئَةُ الأَوْراقِ النقدية الَّتي مع خالِدٍ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FD00414_"/>
          <p:cNvPicPr/>
          <p:nvPr/>
        </p:nvPicPr>
        <p:blipFill>
          <a:blip r:embed="rId1"/>
          <a:stretch/>
        </p:blipFill>
        <p:spPr>
          <a:xfrm>
            <a:off x="228600" y="0"/>
            <a:ext cx="1411200" cy="9129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609480" y="4800600"/>
            <a:ext cx="4648320" cy="175248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6:13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52:37Z</dcterms:modified>
  <cp:revision>84</cp:revision>
  <dc:subject>5- استعمال النقود</dc:subject>
  <dc:title>رياضيات 1ب - الفصل الثالث عشر</dc:title>
</cp:coreProperties>
</file>