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2BC3-8D13-47F5-A895-FB3AC93A0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B90F-0DB0-48FC-88C8-AF3865764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7463-E952-4B7F-9478-1F588EBF0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4199-9BCF-46CA-BB0D-575AD357B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3AFA-0444-4194-91D9-7328CEB00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0C0D-D8F7-4BDF-9944-703C76C6D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F47A-0387-44FA-B6EB-973BFC22C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9C7C-43DA-45AB-980F-8E513207B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D442-7B8C-4996-8B64-3FE52E00A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B94C-5A25-4B8E-8B6A-9BCB5528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4AF0-A178-44AC-BBED-4C66D1FB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9952-2B74-4E39-9265-A7F2B919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7521EB-6872-48DD-8DF4-AFA06781325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32F23C-5452-418D-AEE2-1A73CCD86FE4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" Target="slide1.xm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49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1" name="Picture 14" descr="145-1-1"/>
          <p:cNvPicPr/>
          <p:nvPr/>
        </p:nvPicPr>
        <p:blipFill>
          <a:blip r:embed="rId10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9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1" name="Picture 14" descr="145-1-2 copy"/>
          <p:cNvPicPr/>
          <p:nvPr/>
        </p:nvPicPr>
        <p:blipFill>
          <a:blip r:embed="rId10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9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1" name="Picture 14" descr="145-2-1 copy"/>
          <p:cNvPicPr/>
          <p:nvPr/>
        </p:nvPicPr>
        <p:blipFill>
          <a:blip r:embed="rId10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9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1" name="Picture 14" descr="145-2-2 copy"/>
          <p:cNvPicPr/>
          <p:nvPr/>
        </p:nvPicPr>
        <p:blipFill>
          <a:blip r:embed="rId10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9" name="Picture 12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5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1" name="Picture 14" descr="145-3-1 copy"/>
          <p:cNvPicPr/>
          <p:nvPr/>
        </p:nvPicPr>
        <p:blipFill>
          <a:blip r:embed="rId6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3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6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9" name="Picture 12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1" name="Picture 14" descr="145-3-2 copy"/>
          <p:cNvPicPr/>
          <p:nvPr/>
        </p:nvPicPr>
        <p:blipFill>
          <a:blip r:embed="rId5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07:34:56Z</dcterms:created>
  <dc:creator>최봉수</dc:creator>
  <dc:description/>
  <dc:language>en-US</dc:language>
  <cp:lastModifiedBy>맛있다 군만두</cp:lastModifiedBy>
  <dcterms:modified xsi:type="dcterms:W3CDTF">2024-09-24T07:56:54Z</dcterms:modified>
  <cp:revision>5</cp:revision>
  <dc:subject/>
  <dc:title>슬라이드 1</dc:title>
</cp:coreProperties>
</file>