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46B-CCBD-40F5-940F-4C48B72B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533-1098-40E8-91DF-CD20F6A1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DC5-445D-4926-B4A4-97BABC6D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779-687D-4E64-851F-98A12AB8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D87-12CA-42D3-B362-E3077263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8D6-2CAC-4E2B-8040-0295AF84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648-C68D-4165-A370-FB0EFA40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FD8-3126-4C08-9105-24E83593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E2B-2A53-4C34-8045-993A6A06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0C4-E50B-47C7-9AB8-D8CD6E08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F55-03B0-4E8E-BDC3-D1824BB4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33E-B611-4E8D-AF80-A8EDEB2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B6593-A7CA-436A-A8C8-09D87155B2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BF069-EFC1-4E42-A2E6-81F0D5FE354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14" descr="145-1-1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14" descr="145-1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14" descr="145-2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14" descr="145-2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14" descr="145-3-1 copy"/>
          <p:cNvPicPr/>
          <p:nvPr/>
        </p:nvPicPr>
        <p:blipFill>
          <a:blip r:embed="rId6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14" descr="145-3-2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9-24T07:56:54Z</dcterms:modified>
  <cp:revision>5</cp:revision>
  <dc:subject/>
  <dc:title>슬라이드 1</dc:title>
</cp:coreProperties>
</file>