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68C-91DE-4932-B2A2-44E73A18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560-FBED-48E2-9263-26ADF48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61C-4731-429D-A518-AE297EBD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FDD-CA13-4E71-9F40-22F285FB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725-7345-43F0-9BB2-DE3E1492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F91-37F9-4A42-9A95-95067242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F72-5129-46DD-9027-BF077607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744-7D1B-4B0F-8722-A7E6A7AE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997-4423-4851-9C1F-DA1984C3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706-1290-4D8C-B721-A1EF3E31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45D-665B-45D5-B4B2-5E007AF7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3CA-BC2C-4F7F-9FB8-B454725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108D-AF70-4765-BF9A-120E0460EB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9T00:18:43Z</dcterms:modified>
  <cp:revision>24</cp:revision>
  <dc:subject/>
  <dc:title>슬라이드 1</dc:title>
</cp:coreProperties>
</file>