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74E-6246-49EE-8B18-3630F997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8C7-F48B-4DA9-A58F-25EB2826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118-6FB0-476A-BEC0-4A6F7ED3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50B1-D98C-4E59-8A2B-D4D5FE4E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0E7-D457-4B09-B85D-DF9A0D49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D10-7F8F-42B0-B799-226B179E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362-4AF0-4847-94B8-7A2F2AB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A5B-32D8-4701-B954-E3D8E45D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06D-B77A-44DF-BECC-8A7462E3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CE3-FD66-49FE-98E1-38EF3C83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93D-77FC-4FB4-AA59-F8739FEE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285-AAFC-49B4-905D-23C9EFB6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5DF6-F360-4E93-B9CB-5F1FAB223FC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29T00:18:43Z</dcterms:modified>
  <cp:revision>24</cp:revision>
  <dc:subject/>
  <dc:title>슬라이드 1</dc:title>
</cp:coreProperties>
</file>